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suction.wav" ContentType="audio/x-wav"/>
  <Override PartName="/ppt/media/image22.png" ContentType="image/png"/>
  <Override PartName="/ppt/media/image21.wmf" ContentType="image/x-wmf"/>
  <Override PartName="/ppt/media/image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5.jpeg" ContentType="image/jpeg"/>
  <Override PartName="/ppt/media/image26.jpeg" ContentType="image/jpeg"/>
  <Override PartName="/ppt/media/Phone_02.wav" ContentType="audio/x-wav"/>
  <Override PartName="/ppt/media/image1.png" ContentType="image/png"/>
  <Override PartName="/ppt/media/image31.png" ContentType="image/png"/>
  <Override PartName="/ppt/media/image14.jpeg" ContentType="image/jpeg"/>
  <Override PartName="/ppt/media/image41.jpeg" ContentType="image/jpeg"/>
  <Override PartName="/ppt/media/drumroll.wav" ContentType="audio/x-wav"/>
  <Override PartName="/ppt/media/image27.png" ContentType="image/png"/>
  <Override PartName="/ppt/media/image16.png" ContentType="image/png"/>
  <Override PartName="/ppt/media/image13.gif" ContentType="image/gif"/>
  <Override PartName="/ppt/media/image10.jpeg" ContentType="image/jpeg"/>
  <Override PartName="/ppt/media/image43.jpeg" ContentType="image/jpeg"/>
  <Override PartName="/ppt/media/image5.png" ContentType="image/png"/>
  <Override PartName="/ppt/media/image35.jpeg" ContentType="image/jpeg"/>
  <Override PartName="/ppt/media/image20.jpeg" ContentType="image/jpeg"/>
  <Override PartName="/ppt/media/image12.png" ContentType="image/png"/>
  <Override PartName="/ppt/media/image29.png" ContentType="image/png"/>
  <Override PartName="/ppt/media/chimes.wav" ContentType="audio/x-wav"/>
  <Override PartName="/ppt/media/image30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7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38.png" ContentType="image/png"/>
  <Override PartName="/ppt/media/image23.wmf" ContentType="image/x-wmf"/>
  <Override PartName="/ppt/media/image42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breeze.wav" ContentType="audio/x-wav"/>
  <Override PartName="/ppt/media/image4.png" ContentType="image/png"/>
  <Override PartName="/ppt/media/image33.png" ContentType="image/png"/>
  <Override PartName="/ppt/media/image3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4439-D288-4511-B10E-69B88F215471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Marcador de Posição do Número do Diapositivo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B72E-0D16-4BFF-9649-35F78ACA81F2}" type="slidenum">
              <a:rPr b="0" lang="pt-PT" sz="1200" spc="-1" strike="noStrike">
                <a:solidFill>
                  <a:srgbClr val="ff33cc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4771-CAD6-46A4-A7CA-F15C58A4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1B9D-DCE5-43E1-88DC-C933B10A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3BE6-0B71-4E3F-9CE8-38C86C47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4A4-2B9B-4FB6-BDF5-9C8FA8FD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1754-337A-4E1E-A0C0-6B24B78D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CFEF-F5BC-4A9B-B475-765DDDDF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C389-BC45-4946-BEFC-BDC389F8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5127-A29F-4691-96C5-21A18913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2E2B-DFF3-471B-86D8-4EFA4FA7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55DE-3BFE-4EBD-AC24-D2BBC9E9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CE75-AA5D-442F-B4FD-9562A246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7A1-C10D-47D1-B51F-131E53F0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3D10-426D-432F-AC4F-0A67F8E6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BC51-7B03-4730-877C-41C269E3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12A7-D56F-4FDA-BEEE-BCDFCE3E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3053-5559-4242-B1C9-A7334FFC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C389-6044-4042-98C2-ABC143FB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A47-F169-484A-863C-476430B0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8370-7B7C-4628-83D5-E85143C4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51A-E8EC-40C2-862C-053CB06D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7A8-6FC2-4D5E-9165-86BC532C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96A3-5261-42ED-8F9B-C12B855B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BAB-6211-4E9F-9627-50085314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5FBE-3239-482E-953C-E7FB7FD0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30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303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303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A430-31A0-4AF4-BC5A-39F418CB74E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030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7B40-7F43-4CB9-8E38-1EB5F427D25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ff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0303bd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ff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1.png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gif"/><Relationship Id="rId9" Type="http://schemas.openxmlformats.org/officeDocument/2006/relationships/image" Target="../media/image1.png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audio" Target="../media/Phone_02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9.jpe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mages.google.pt/imgres?imgurl=http://images1.jacotei.com.br/grd/422413.jpg&amp;imgrefurl=http://www.jacotei.com.br/campainha-de-potencia-p-telefone-com-leds-danval-cf10i7a.html&amp;h=200&amp;w=200&amp;sz=5&amp;hl=pt-PT&amp;start=31&amp;tbnid=JIF_cnkF19n0LM:&amp;tbnh=104&amp;tbnw=104&amp;prev=/images%3Fq%3Dcampainha%26start%3D20%26gbv%3D2%26ndsp%3D20%26hl%3Dpt-PT%26sa%3DN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wmf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70040" y="1484280"/>
            <a:ext cx="3946680" cy="39592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8"/>
          <p:cNvSpPr/>
          <p:nvPr/>
        </p:nvSpPr>
        <p:spPr>
          <a:xfrm>
            <a:off x="1835280" y="547560"/>
            <a:ext cx="5616360" cy="7207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000" spc="-1" strike="noStrike" u="sng">
                <a:solidFill>
                  <a:srgbClr val="002060"/>
                </a:solidFill>
                <a:uFillTx/>
                <a:latin typeface="Comic Sans MS"/>
                <a:ea typeface="ヒラギノ角ゴ Pro W3"/>
              </a:rPr>
              <a:t>Segurança na Esco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1" descr="sistemaClube"/>
          <p:cNvPicPr/>
          <p:nvPr/>
        </p:nvPicPr>
        <p:blipFill>
          <a:blip r:embed="rId2"/>
          <a:stretch/>
        </p:blipFill>
        <p:spPr>
          <a:xfrm>
            <a:off x="611280" y="5805360"/>
            <a:ext cx="798480" cy="803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90560" y="5734080"/>
            <a:ext cx="1368720" cy="74124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8"/>
          <p:cNvSpPr/>
          <p:nvPr/>
        </p:nvSpPr>
        <p:spPr>
          <a:xfrm>
            <a:off x="324000" y="5373720"/>
            <a:ext cx="1512720" cy="360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omic Sans MS"/>
                <a:ea typeface="ヒラギノ角ゴ Pro W3"/>
              </a:rPr>
              <a:t>Com o apoio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29"/>
          <p:cNvGrpSpPr/>
          <p:nvPr/>
        </p:nvGrpSpPr>
        <p:grpSpPr>
          <a:xfrm>
            <a:off x="3419640" y="5877000"/>
            <a:ext cx="1800000" cy="730080"/>
            <a:chOff x="3419640" y="5877000"/>
            <a:chExt cx="1800000" cy="730080"/>
          </a:xfrm>
        </p:grpSpPr>
        <p:sp>
          <p:nvSpPr>
            <p:cNvPr id="103" name="AutoShape 28"/>
            <p:cNvSpPr/>
            <p:nvPr/>
          </p:nvSpPr>
          <p:spPr>
            <a:xfrm>
              <a:off x="3419640" y="5877000"/>
              <a:ext cx="179532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" name="Picture 30" descr=""/>
            <p:cNvPicPr/>
            <p:nvPr/>
          </p:nvPicPr>
          <p:blipFill>
            <a:blip r:embed="rId4"/>
            <a:stretch/>
          </p:blipFill>
          <p:spPr>
            <a:xfrm>
              <a:off x="3419640" y="5877000"/>
              <a:ext cx="1800000" cy="730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455840" y="12240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692360" y="3284640"/>
            <a:ext cx="561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19120" y="12240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119480" y="2872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6880320" y="4383000"/>
            <a:ext cx="17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12" descr="fumo - gatas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206" name="Rectângulo 8"/>
          <p:cNvSpPr/>
          <p:nvPr/>
        </p:nvSpPr>
        <p:spPr>
          <a:xfrm>
            <a:off x="2556000" y="692280"/>
            <a:ext cx="5184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Comic Sans MS"/>
                <a:ea typeface="ヒラギノ角ゴ Pro W3"/>
              </a:rPr>
              <a:t>Fum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36360" y="30240"/>
            <a:ext cx="91803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0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3598920" y="404640"/>
            <a:ext cx="554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  <a:ea typeface="ヒラギノ角ゴ Pro W3"/>
              </a:rPr>
              <a:t>Quando as roupas ardem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6" descr="Incendio_Para"/>
          <p:cNvPicPr/>
          <p:nvPr/>
        </p:nvPicPr>
        <p:blipFill>
          <a:blip r:embed="rId1"/>
          <a:stretch/>
        </p:blipFill>
        <p:spPr>
          <a:xfrm>
            <a:off x="179280" y="2205000"/>
            <a:ext cx="2944800" cy="3095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Incendio_Deita"/>
          <p:cNvPicPr/>
          <p:nvPr/>
        </p:nvPicPr>
        <p:blipFill>
          <a:blip r:embed="rId2"/>
          <a:stretch/>
        </p:blipFill>
        <p:spPr>
          <a:xfrm>
            <a:off x="3203640" y="2276640"/>
            <a:ext cx="2844720" cy="3074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Incendio_Rola"/>
          <p:cNvPicPr/>
          <p:nvPr/>
        </p:nvPicPr>
        <p:blipFill>
          <a:blip r:embed="rId3"/>
          <a:stretch/>
        </p:blipFill>
        <p:spPr>
          <a:xfrm>
            <a:off x="6227640" y="2205000"/>
            <a:ext cx="2916360" cy="3000240"/>
          </a:xfrm>
          <a:prstGeom prst="rect">
            <a:avLst/>
          </a:prstGeom>
          <a:ln w="0">
            <a:noFill/>
          </a:ln>
        </p:spPr>
      </p:pic>
      <p:sp>
        <p:nvSpPr>
          <p:cNvPr id="213" name="CaixaDeTexto 6"/>
          <p:cNvSpPr/>
          <p:nvPr/>
        </p:nvSpPr>
        <p:spPr>
          <a:xfrm>
            <a:off x="0" y="5516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0995"/>
                </a:solidFill>
                <a:latin typeface="Comic Sans MS"/>
                <a:ea typeface="ヒラギノ角ゴ Pro W3"/>
              </a:rPr>
              <a:t>1 - </a:t>
            </a:r>
            <a:r>
              <a:rPr b="1" lang="en-US" sz="3200" spc="-1" strike="noStrike" u="sng">
                <a:solidFill>
                  <a:srgbClr val="1d0995"/>
                </a:solidFill>
                <a:uFillTx/>
                <a:latin typeface="Comic Sans MS"/>
                <a:ea typeface="ヒラギノ角ゴ Pro W3"/>
              </a:rPr>
              <a:t>Pá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CaixaDeTexto 7"/>
          <p:cNvSpPr/>
          <p:nvPr/>
        </p:nvSpPr>
        <p:spPr>
          <a:xfrm>
            <a:off x="3419640" y="558972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0995"/>
                </a:solidFill>
                <a:latin typeface="Comic Sans MS"/>
                <a:ea typeface="ヒラギノ角ゴ Pro W3"/>
              </a:rPr>
              <a:t>2 – </a:t>
            </a:r>
            <a:r>
              <a:rPr b="1" lang="en-US" sz="3200" spc="-1" strike="noStrike" u="sng">
                <a:solidFill>
                  <a:srgbClr val="1d0995"/>
                </a:solidFill>
                <a:uFillTx/>
                <a:latin typeface="Comic Sans MS"/>
                <a:ea typeface="ヒラギノ角ゴ Pro W3"/>
              </a:rPr>
              <a:t>Deita-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CaixaDeTexto 8"/>
          <p:cNvSpPr/>
          <p:nvPr/>
        </p:nvSpPr>
        <p:spPr>
          <a:xfrm>
            <a:off x="6551640" y="5589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0995"/>
                </a:solidFill>
                <a:latin typeface="Comic Sans MS"/>
                <a:ea typeface="ヒラギノ角ゴ Pro W3"/>
              </a:rPr>
              <a:t>3 - </a:t>
            </a:r>
            <a:r>
              <a:rPr b="1" lang="en-US" sz="3200" spc="-1" strike="noStrike" u="sng">
                <a:solidFill>
                  <a:srgbClr val="1d0995"/>
                </a:solidFill>
                <a:uFillTx/>
                <a:latin typeface="Comic Sans MS"/>
                <a:ea typeface="ヒラギノ角ゴ Pro W3"/>
              </a:rPr>
              <a:t>R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  <p:sndAc>
      <p:stSnd>
        <p:snd r:embed="rId5" name="suction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455840" y="12240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1692360" y="3284640"/>
            <a:ext cx="5616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519120" y="12240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119480" y="2872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6880320" y="4383000"/>
            <a:ext cx="17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905120" y="206280"/>
            <a:ext cx="527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ヒラギノ角ゴ Pro W3"/>
              </a:rPr>
              <a:t>Ponto de Encontr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8" descr="DSC03473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9"/>
          <p:cNvSpPr/>
          <p:nvPr/>
        </p:nvSpPr>
        <p:spPr>
          <a:xfrm>
            <a:off x="1128600" y="-200160"/>
            <a:ext cx="687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03bd"/>
                </a:solidFill>
                <a:latin typeface="Times New Roman"/>
                <a:ea typeface="ヒラギノ角ゴ Pro W3"/>
              </a:rPr>
              <a:t>Clube de Protecção Civil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6" descr="visita ao quartel Escola S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35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D:\Dia Intern. PROCIV CDOS Porto\Fotografias\Paços de Ferreira\DIPC 035.jpg"/>
          <p:cNvPicPr/>
          <p:nvPr/>
        </p:nvPicPr>
        <p:blipFill>
          <a:blip r:embed="rId1"/>
          <a:stretch/>
        </p:blipFill>
        <p:spPr>
          <a:xfrm>
            <a:off x="230040" y="968400"/>
            <a:ext cx="4050000" cy="5400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D:\Dia Intern. PROCIV CDOS Porto\Fotografias\Paços de Ferreira\IMG_2505.JPG"/>
          <p:cNvPicPr/>
          <p:nvPr/>
        </p:nvPicPr>
        <p:blipFill>
          <a:blip r:embed="rId2"/>
          <a:stretch/>
        </p:blipFill>
        <p:spPr>
          <a:xfrm>
            <a:off x="4343400" y="200664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9"/>
          <p:cNvSpPr/>
          <p:nvPr/>
        </p:nvSpPr>
        <p:spPr>
          <a:xfrm>
            <a:off x="1128600" y="-200160"/>
            <a:ext cx="687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03bd"/>
                </a:solidFill>
                <a:latin typeface="Times New Roman"/>
                <a:ea typeface="ヒラギノ角ゴ Pro W3"/>
              </a:rPr>
              <a:t>Clube de Protecção Civil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D:\Dia Intern. PROCIV CDOS Porto\Fotografias\Paredes\CMParedes_07_03_2008_ 503.jpg"/>
          <p:cNvPicPr/>
          <p:nvPr/>
        </p:nvPicPr>
        <p:blipFill>
          <a:blip r:embed="rId1"/>
          <a:stretch/>
        </p:blipFill>
        <p:spPr>
          <a:xfrm>
            <a:off x="316080" y="1058760"/>
            <a:ext cx="5940360" cy="3961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D:\Dia Intern. PROCIV CDOS Porto\Fotografias\Paredes\CMParedes_07_03_2008_ 716.jpg"/>
          <p:cNvPicPr/>
          <p:nvPr/>
        </p:nvPicPr>
        <p:blipFill>
          <a:blip r:embed="rId2"/>
          <a:stretch/>
        </p:blipFill>
        <p:spPr>
          <a:xfrm>
            <a:off x="4824360" y="3978360"/>
            <a:ext cx="4319640" cy="28796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29"/>
          <p:cNvSpPr/>
          <p:nvPr/>
        </p:nvSpPr>
        <p:spPr>
          <a:xfrm>
            <a:off x="1128600" y="-200160"/>
            <a:ext cx="687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03bd"/>
                </a:solidFill>
                <a:latin typeface="Times New Roman"/>
                <a:ea typeface="ヒラギノ角ゴ Pro W3"/>
              </a:rPr>
              <a:t>Clube de Protecção Civil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609480" y="1995480"/>
            <a:ext cx="792504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438280" y="4952880"/>
            <a:ext cx="42674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642960" y="714240"/>
            <a:ext cx="90774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ヒラギノ角ゴ Pro W3"/>
              </a:rPr>
              <a:t>PROTECÇÃO CI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alibri"/>
                <a:ea typeface="ヒラギノ角ゴ Pro W3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Calibri"/>
                <a:ea typeface="ヒラギノ角ゴ Pro W3"/>
              </a:rPr>
              <a:t>UMA TAREFA DE TODOS PARA TO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hamada oval 13"/>
          <p:cNvSpPr/>
          <p:nvPr/>
        </p:nvSpPr>
        <p:spPr>
          <a:xfrm rot="7123800">
            <a:off x="5346000" y="2006280"/>
            <a:ext cx="3029040" cy="3714840"/>
          </a:xfrm>
          <a:prstGeom prst="wedgeEllipseCallout">
            <a:avLst>
              <a:gd name="adj1" fmla="val 24773"/>
              <a:gd name="adj2" fmla="val 81060"/>
            </a:avLst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CaixaDeTexto 14"/>
          <p:cNvSpPr/>
          <p:nvPr/>
        </p:nvSpPr>
        <p:spPr>
          <a:xfrm>
            <a:off x="5508720" y="2852640"/>
            <a:ext cx="2928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  <a:ea typeface="ヒラギノ角ゴ Pro W3"/>
              </a:rPr>
              <a:t>TUDO PLANEADO… SONINHO DESCANS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CaixaDeTexto 12"/>
          <p:cNvSpPr/>
          <p:nvPr/>
        </p:nvSpPr>
        <p:spPr>
          <a:xfrm>
            <a:off x="1476360" y="5805360"/>
            <a:ext cx="57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mic Sans MS"/>
                <a:ea typeface="ヒラギノ角ゴ Pro W3"/>
              </a:rPr>
              <a:t>Obrig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7" descr="csparky"/>
          <p:cNvPicPr/>
          <p:nvPr/>
        </p:nvPicPr>
        <p:blipFill>
          <a:blip r:embed="rId1"/>
          <a:stretch/>
        </p:blipFill>
        <p:spPr>
          <a:xfrm>
            <a:off x="911160" y="2349360"/>
            <a:ext cx="2940120" cy="31276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tinoni_07"/>
          <p:cNvPicPr/>
          <p:nvPr/>
        </p:nvPicPr>
        <p:blipFill>
          <a:blip r:embed="rId2"/>
          <a:stretch/>
        </p:blipFill>
        <p:spPr>
          <a:xfrm>
            <a:off x="1835280" y="1628640"/>
            <a:ext cx="6143400" cy="48992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8"/>
          <p:cNvSpPr/>
          <p:nvPr/>
        </p:nvSpPr>
        <p:spPr>
          <a:xfrm>
            <a:off x="1835280" y="547560"/>
            <a:ext cx="5616360" cy="7207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000" spc="-1" strike="noStrike" u="sng">
                <a:solidFill>
                  <a:srgbClr val="002060"/>
                </a:solidFill>
                <a:uFillTx/>
                <a:latin typeface="Comic Sans MS"/>
                <a:ea typeface="ヒラギノ角ゴ Pro W3"/>
              </a:rPr>
              <a:t>Segurança na Esco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5"/>
          <p:cNvSpPr/>
          <p:nvPr/>
        </p:nvSpPr>
        <p:spPr>
          <a:xfrm>
            <a:off x="1403280" y="0"/>
            <a:ext cx="6656400" cy="9381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omic Sans MS"/>
                <a:ea typeface="ヒラギノ角ゴ Pro W3"/>
              </a:rPr>
              <a:t>Agentes de Protecção Civ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3143160" y="1500120"/>
            <a:ext cx="3376800" cy="264312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mic Sans MS"/>
                <a:ea typeface="ヒラギノ角ゴ Pro W3"/>
              </a:rPr>
              <a:t>Agente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mic Sans MS"/>
                <a:ea typeface="ヒラギノ角ゴ Pro W3"/>
              </a:rPr>
              <a:t>Protec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mic Sans MS"/>
                <a:ea typeface="ヒラギノ角ゴ Pro W3"/>
              </a:rPr>
              <a:t>Civ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8" descr="cvp"/>
          <p:cNvPicPr/>
          <p:nvPr/>
        </p:nvPicPr>
        <p:blipFill>
          <a:blip r:embed="rId1"/>
          <a:stretch/>
        </p:blipFill>
        <p:spPr>
          <a:xfrm>
            <a:off x="7642080" y="1643040"/>
            <a:ext cx="1501920" cy="2085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inem"/>
          <p:cNvPicPr/>
          <p:nvPr/>
        </p:nvPicPr>
        <p:blipFill>
          <a:blip r:embed="rId2"/>
          <a:stretch/>
        </p:blipFill>
        <p:spPr>
          <a:xfrm>
            <a:off x="7286760" y="4429080"/>
            <a:ext cx="1649160" cy="2300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snb"/>
          <p:cNvPicPr/>
          <p:nvPr/>
        </p:nvPicPr>
        <p:blipFill>
          <a:blip r:embed="rId3"/>
          <a:stretch/>
        </p:blipFill>
        <p:spPr>
          <a:xfrm>
            <a:off x="5214960" y="4335480"/>
            <a:ext cx="1500120" cy="2362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psp"/>
          <p:cNvPicPr/>
          <p:nvPr/>
        </p:nvPicPr>
        <p:blipFill>
          <a:blip r:embed="rId4"/>
          <a:stretch/>
        </p:blipFill>
        <p:spPr>
          <a:xfrm>
            <a:off x="2286000" y="4286160"/>
            <a:ext cx="2023920" cy="257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marujo"/>
          <p:cNvPicPr/>
          <p:nvPr/>
        </p:nvPicPr>
        <p:blipFill>
          <a:blip r:embed="rId5"/>
          <a:stretch/>
        </p:blipFill>
        <p:spPr>
          <a:xfrm>
            <a:off x="1908000" y="2205000"/>
            <a:ext cx="1229040" cy="2214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9" descr="fas"/>
          <p:cNvPicPr/>
          <p:nvPr/>
        </p:nvPicPr>
        <p:blipFill>
          <a:blip r:embed="rId6"/>
          <a:stretch/>
        </p:blipFill>
        <p:spPr>
          <a:xfrm>
            <a:off x="468360" y="4437000"/>
            <a:ext cx="1285920" cy="2097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0" descr="aviador"/>
          <p:cNvPicPr/>
          <p:nvPr/>
        </p:nvPicPr>
        <p:blipFill>
          <a:blip r:embed="rId7"/>
          <a:stretch/>
        </p:blipFill>
        <p:spPr>
          <a:xfrm>
            <a:off x="0" y="2060640"/>
            <a:ext cx="132876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redwhite"/>
          <p:cNvPicPr/>
          <p:nvPr/>
        </p:nvPicPr>
        <p:blipFill>
          <a:blip r:embed="rId8"/>
          <a:stretch/>
        </p:blipFill>
        <p:spPr>
          <a:xfrm>
            <a:off x="3276720" y="836640"/>
            <a:ext cx="2876400" cy="485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4643280" y="1785960"/>
            <a:ext cx="42498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Black"/>
                <a:ea typeface="ヒラギノ角ゴ Pro W3"/>
              </a:rPr>
              <a:t>Em caso de emergência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Black"/>
                <a:ea typeface="ヒラギノ角ゴ Pro W3"/>
              </a:rPr>
              <a:t>liga 112</a:t>
            </a:r>
            <a:r>
              <a:rPr b="0" lang="en-US" sz="3600" spc="-1" strike="noStrike">
                <a:solidFill>
                  <a:srgbClr val="3366ff"/>
                </a:solidFill>
                <a:latin typeface="Arial Black"/>
                <a:ea typeface="ヒラギノ角ゴ Pro W3"/>
              </a:rPr>
              <a:t>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6" descr="112_Inundacoes"/>
          <p:cNvPicPr/>
          <p:nvPr/>
        </p:nvPicPr>
        <p:blipFill>
          <a:blip r:embed="rId1"/>
          <a:stretch/>
        </p:blipFill>
        <p:spPr>
          <a:xfrm>
            <a:off x="0" y="2281320"/>
            <a:ext cx="4446720" cy="45766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18"/>
          <p:cNvGrpSpPr/>
          <p:nvPr/>
        </p:nvGrpSpPr>
        <p:grpSpPr>
          <a:xfrm>
            <a:off x="6858360" y="4786200"/>
            <a:ext cx="1642680" cy="1643040"/>
            <a:chOff x="6858360" y="4786200"/>
            <a:chExt cx="1642680" cy="1643040"/>
          </a:xfrm>
        </p:grpSpPr>
        <p:sp>
          <p:nvSpPr>
            <p:cNvPr id="122" name="Freeform 19"/>
            <p:cNvSpPr/>
            <p:nvPr/>
          </p:nvSpPr>
          <p:spPr>
            <a:xfrm flipH="1">
              <a:off x="7107120" y="5232960"/>
              <a:ext cx="1393560" cy="893520"/>
            </a:xfrm>
            <a:custGeom>
              <a:avLst/>
              <a:gdLst>
                <a:gd name="textAreaLeft" fmla="*/ -360 w 1393560"/>
                <a:gd name="textAreaRight" fmla="*/ 1393560 w 139356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2580" h="1952">
                  <a:moveTo>
                    <a:pt x="2264" y="54"/>
                  </a:moveTo>
                  <a:lnTo>
                    <a:pt x="1905" y="0"/>
                  </a:lnTo>
                  <a:lnTo>
                    <a:pt x="1437" y="41"/>
                  </a:lnTo>
                  <a:lnTo>
                    <a:pt x="969" y="146"/>
                  </a:lnTo>
                  <a:lnTo>
                    <a:pt x="599" y="303"/>
                  </a:lnTo>
                  <a:lnTo>
                    <a:pt x="510" y="370"/>
                  </a:lnTo>
                  <a:lnTo>
                    <a:pt x="399" y="608"/>
                  </a:lnTo>
                  <a:lnTo>
                    <a:pt x="416" y="817"/>
                  </a:lnTo>
                  <a:lnTo>
                    <a:pt x="499" y="1017"/>
                  </a:lnTo>
                  <a:lnTo>
                    <a:pt x="335" y="1147"/>
                  </a:lnTo>
                  <a:lnTo>
                    <a:pt x="345" y="1199"/>
                  </a:lnTo>
                  <a:lnTo>
                    <a:pt x="0" y="1425"/>
                  </a:lnTo>
                  <a:lnTo>
                    <a:pt x="59" y="1518"/>
                  </a:lnTo>
                  <a:lnTo>
                    <a:pt x="46" y="1571"/>
                  </a:lnTo>
                  <a:lnTo>
                    <a:pt x="140" y="1649"/>
                  </a:lnTo>
                  <a:lnTo>
                    <a:pt x="221" y="1556"/>
                  </a:lnTo>
                  <a:lnTo>
                    <a:pt x="162" y="1704"/>
                  </a:lnTo>
                  <a:lnTo>
                    <a:pt x="292" y="1833"/>
                  </a:lnTo>
                  <a:lnTo>
                    <a:pt x="365" y="1768"/>
                  </a:lnTo>
                  <a:lnTo>
                    <a:pt x="354" y="1913"/>
                  </a:lnTo>
                  <a:lnTo>
                    <a:pt x="499" y="1952"/>
                  </a:lnTo>
                  <a:lnTo>
                    <a:pt x="406" y="1794"/>
                  </a:lnTo>
                  <a:lnTo>
                    <a:pt x="557" y="1610"/>
                  </a:lnTo>
                  <a:lnTo>
                    <a:pt x="478" y="1464"/>
                  </a:lnTo>
                  <a:lnTo>
                    <a:pt x="335" y="1571"/>
                  </a:lnTo>
                  <a:lnTo>
                    <a:pt x="386" y="1372"/>
                  </a:lnTo>
                  <a:lnTo>
                    <a:pt x="283" y="1425"/>
                  </a:lnTo>
                  <a:lnTo>
                    <a:pt x="292" y="1306"/>
                  </a:lnTo>
                  <a:lnTo>
                    <a:pt x="386" y="1228"/>
                  </a:lnTo>
                  <a:lnTo>
                    <a:pt x="386" y="1134"/>
                  </a:lnTo>
                  <a:lnTo>
                    <a:pt x="527" y="1042"/>
                  </a:lnTo>
                  <a:lnTo>
                    <a:pt x="742" y="1042"/>
                  </a:lnTo>
                  <a:lnTo>
                    <a:pt x="1078" y="754"/>
                  </a:lnTo>
                  <a:lnTo>
                    <a:pt x="1050" y="608"/>
                  </a:lnTo>
                  <a:lnTo>
                    <a:pt x="897" y="477"/>
                  </a:lnTo>
                  <a:lnTo>
                    <a:pt x="1151" y="346"/>
                  </a:lnTo>
                  <a:lnTo>
                    <a:pt x="1589" y="303"/>
                  </a:lnTo>
                  <a:lnTo>
                    <a:pt x="2061" y="290"/>
                  </a:lnTo>
                  <a:lnTo>
                    <a:pt x="1866" y="449"/>
                  </a:lnTo>
                  <a:lnTo>
                    <a:pt x="1866" y="633"/>
                  </a:lnTo>
                  <a:lnTo>
                    <a:pt x="1967" y="779"/>
                  </a:lnTo>
                  <a:lnTo>
                    <a:pt x="2171" y="898"/>
                  </a:lnTo>
                  <a:lnTo>
                    <a:pt x="2282" y="912"/>
                  </a:lnTo>
                  <a:lnTo>
                    <a:pt x="2580" y="765"/>
                  </a:lnTo>
                  <a:lnTo>
                    <a:pt x="2550" y="477"/>
                  </a:lnTo>
                  <a:lnTo>
                    <a:pt x="2407" y="185"/>
                  </a:lnTo>
                  <a:lnTo>
                    <a:pt x="2264" y="54"/>
                  </a:lnTo>
                  <a:close/>
                </a:path>
              </a:pathLst>
            </a:custGeom>
            <a:solidFill>
              <a:srgbClr val="fff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20"/>
            <p:cNvSpPr/>
            <p:nvPr/>
          </p:nvSpPr>
          <p:spPr>
            <a:xfrm flipH="1">
              <a:off x="7277760" y="5511240"/>
              <a:ext cx="981000" cy="731160"/>
            </a:xfrm>
            <a:custGeom>
              <a:avLst/>
              <a:gdLst>
                <a:gd name="textAreaLeft" fmla="*/ -360 w 981000"/>
                <a:gd name="textAreaRight" fmla="*/ 981000 w 981000"/>
                <a:gd name="textAreaTop" fmla="*/ 0 h 731160"/>
                <a:gd name="textAreaBottom" fmla="*/ 731520 h 731160"/>
              </a:gdLst>
              <a:ahLst/>
              <a:rect l="textAreaLeft" t="textAreaTop" r="textAreaRight" b="textAreaBottom"/>
              <a:pathLst>
                <a:path w="1816" h="1597">
                  <a:moveTo>
                    <a:pt x="938" y="0"/>
                  </a:moveTo>
                  <a:lnTo>
                    <a:pt x="754" y="79"/>
                  </a:lnTo>
                  <a:lnTo>
                    <a:pt x="754" y="238"/>
                  </a:lnTo>
                  <a:lnTo>
                    <a:pt x="724" y="357"/>
                  </a:lnTo>
                  <a:lnTo>
                    <a:pt x="714" y="461"/>
                  </a:lnTo>
                  <a:lnTo>
                    <a:pt x="724" y="526"/>
                  </a:lnTo>
                  <a:lnTo>
                    <a:pt x="552" y="564"/>
                  </a:lnTo>
                  <a:lnTo>
                    <a:pt x="376" y="658"/>
                  </a:lnTo>
                  <a:lnTo>
                    <a:pt x="263" y="752"/>
                  </a:lnTo>
                  <a:lnTo>
                    <a:pt x="263" y="845"/>
                  </a:lnTo>
                  <a:lnTo>
                    <a:pt x="101" y="1041"/>
                  </a:lnTo>
                  <a:lnTo>
                    <a:pt x="0" y="1225"/>
                  </a:lnTo>
                  <a:lnTo>
                    <a:pt x="255" y="1371"/>
                  </a:lnTo>
                  <a:lnTo>
                    <a:pt x="498" y="1477"/>
                  </a:lnTo>
                  <a:lnTo>
                    <a:pt x="1021" y="1569"/>
                  </a:lnTo>
                  <a:lnTo>
                    <a:pt x="1376" y="1569"/>
                  </a:lnTo>
                  <a:lnTo>
                    <a:pt x="1713" y="1597"/>
                  </a:lnTo>
                  <a:lnTo>
                    <a:pt x="1816" y="1410"/>
                  </a:lnTo>
                  <a:lnTo>
                    <a:pt x="1816" y="1186"/>
                  </a:lnTo>
                  <a:lnTo>
                    <a:pt x="1754" y="974"/>
                  </a:lnTo>
                  <a:lnTo>
                    <a:pt x="1777" y="856"/>
                  </a:lnTo>
                  <a:lnTo>
                    <a:pt x="1702" y="723"/>
                  </a:lnTo>
                  <a:lnTo>
                    <a:pt x="1570" y="604"/>
                  </a:lnTo>
                  <a:lnTo>
                    <a:pt x="1470" y="539"/>
                  </a:lnTo>
                  <a:lnTo>
                    <a:pt x="1470" y="371"/>
                  </a:lnTo>
                  <a:lnTo>
                    <a:pt x="1408" y="250"/>
                  </a:lnTo>
                  <a:lnTo>
                    <a:pt x="1480" y="79"/>
                  </a:lnTo>
                  <a:lnTo>
                    <a:pt x="1429" y="52"/>
                  </a:lnTo>
                  <a:lnTo>
                    <a:pt x="1305" y="52"/>
                  </a:lnTo>
                  <a:lnTo>
                    <a:pt x="1286" y="131"/>
                  </a:lnTo>
                  <a:lnTo>
                    <a:pt x="1133" y="131"/>
                  </a:lnTo>
                  <a:lnTo>
                    <a:pt x="998" y="131"/>
                  </a:lnTo>
                  <a:lnTo>
                    <a:pt x="989" y="25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fff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1"/>
            <p:cNvSpPr/>
            <p:nvPr/>
          </p:nvSpPr>
          <p:spPr>
            <a:xfrm flipH="1">
              <a:off x="7459920" y="5898240"/>
              <a:ext cx="447120" cy="132120"/>
            </a:xfrm>
            <a:custGeom>
              <a:avLst/>
              <a:gdLst>
                <a:gd name="textAreaLeft" fmla="*/ 360 w 447120"/>
                <a:gd name="textAreaRight" fmla="*/ 447840 w 44712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828" h="289">
                  <a:moveTo>
                    <a:pt x="0" y="0"/>
                  </a:moveTo>
                  <a:lnTo>
                    <a:pt x="216" y="53"/>
                  </a:lnTo>
                  <a:lnTo>
                    <a:pt x="420" y="65"/>
                  </a:lnTo>
                  <a:lnTo>
                    <a:pt x="613" y="78"/>
                  </a:lnTo>
                  <a:lnTo>
                    <a:pt x="828" y="65"/>
                  </a:lnTo>
                  <a:lnTo>
                    <a:pt x="642" y="210"/>
                  </a:lnTo>
                  <a:lnTo>
                    <a:pt x="489" y="289"/>
                  </a:lnTo>
                  <a:lnTo>
                    <a:pt x="256" y="251"/>
                  </a:lnTo>
                  <a:lnTo>
                    <a:pt x="92" y="184"/>
                  </a:lnTo>
                  <a:lnTo>
                    <a:pt x="21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2"/>
            <p:cNvSpPr/>
            <p:nvPr/>
          </p:nvSpPr>
          <p:spPr>
            <a:xfrm flipH="1">
              <a:off x="7669080" y="5976000"/>
              <a:ext cx="204120" cy="96120"/>
            </a:xfrm>
            <a:custGeom>
              <a:avLst/>
              <a:gdLst>
                <a:gd name="textAreaLeft" fmla="*/ -360 w 204120"/>
                <a:gd name="textAreaRight" fmla="*/ 204120 w 20412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378" h="210">
                  <a:moveTo>
                    <a:pt x="0" y="0"/>
                  </a:moveTo>
                  <a:lnTo>
                    <a:pt x="246" y="94"/>
                  </a:lnTo>
                  <a:lnTo>
                    <a:pt x="378" y="119"/>
                  </a:lnTo>
                  <a:lnTo>
                    <a:pt x="253" y="210"/>
                  </a:lnTo>
                  <a:lnTo>
                    <a:pt x="132" y="210"/>
                  </a:lnTo>
                  <a:lnTo>
                    <a:pt x="40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23"/>
            <p:cNvSpPr/>
            <p:nvPr/>
          </p:nvSpPr>
          <p:spPr>
            <a:xfrm flipH="1">
              <a:off x="7234200" y="5504040"/>
              <a:ext cx="1047240" cy="925200"/>
            </a:xfrm>
            <a:custGeom>
              <a:avLst/>
              <a:gdLst>
                <a:gd name="textAreaLeft" fmla="*/ -360 w 1047240"/>
                <a:gd name="textAreaRight" fmla="*/ 1047240 w 104724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1939" h="2021">
                  <a:moveTo>
                    <a:pt x="1029" y="20"/>
                  </a:moveTo>
                  <a:lnTo>
                    <a:pt x="955" y="0"/>
                  </a:lnTo>
                  <a:lnTo>
                    <a:pt x="910" y="20"/>
                  </a:lnTo>
                  <a:lnTo>
                    <a:pt x="818" y="41"/>
                  </a:lnTo>
                  <a:lnTo>
                    <a:pt x="790" y="157"/>
                  </a:lnTo>
                  <a:lnTo>
                    <a:pt x="790" y="238"/>
                  </a:lnTo>
                  <a:lnTo>
                    <a:pt x="756" y="333"/>
                  </a:lnTo>
                  <a:lnTo>
                    <a:pt x="744" y="412"/>
                  </a:lnTo>
                  <a:lnTo>
                    <a:pt x="728" y="488"/>
                  </a:lnTo>
                  <a:lnTo>
                    <a:pt x="728" y="530"/>
                  </a:lnTo>
                  <a:lnTo>
                    <a:pt x="634" y="549"/>
                  </a:lnTo>
                  <a:lnTo>
                    <a:pt x="529" y="588"/>
                  </a:lnTo>
                  <a:lnTo>
                    <a:pt x="426" y="626"/>
                  </a:lnTo>
                  <a:lnTo>
                    <a:pt x="348" y="687"/>
                  </a:lnTo>
                  <a:lnTo>
                    <a:pt x="304" y="744"/>
                  </a:lnTo>
                  <a:lnTo>
                    <a:pt x="288" y="784"/>
                  </a:lnTo>
                  <a:lnTo>
                    <a:pt x="288" y="803"/>
                  </a:lnTo>
                  <a:lnTo>
                    <a:pt x="288" y="844"/>
                  </a:lnTo>
                  <a:lnTo>
                    <a:pt x="228" y="904"/>
                  </a:lnTo>
                  <a:lnTo>
                    <a:pt x="167" y="961"/>
                  </a:lnTo>
                  <a:lnTo>
                    <a:pt x="105" y="1020"/>
                  </a:lnTo>
                  <a:lnTo>
                    <a:pt x="59" y="1079"/>
                  </a:lnTo>
                  <a:lnTo>
                    <a:pt x="31" y="1139"/>
                  </a:lnTo>
                  <a:lnTo>
                    <a:pt x="0" y="1215"/>
                  </a:lnTo>
                  <a:lnTo>
                    <a:pt x="48" y="1295"/>
                  </a:lnTo>
                  <a:lnTo>
                    <a:pt x="105" y="1412"/>
                  </a:lnTo>
                  <a:lnTo>
                    <a:pt x="151" y="1529"/>
                  </a:lnTo>
                  <a:lnTo>
                    <a:pt x="228" y="1645"/>
                  </a:lnTo>
                  <a:lnTo>
                    <a:pt x="288" y="1725"/>
                  </a:lnTo>
                  <a:lnTo>
                    <a:pt x="485" y="1783"/>
                  </a:lnTo>
                  <a:lnTo>
                    <a:pt x="683" y="1844"/>
                  </a:lnTo>
                  <a:lnTo>
                    <a:pt x="866" y="1882"/>
                  </a:lnTo>
                  <a:lnTo>
                    <a:pt x="620" y="1863"/>
                  </a:lnTo>
                  <a:lnTo>
                    <a:pt x="453" y="1844"/>
                  </a:lnTo>
                  <a:lnTo>
                    <a:pt x="318" y="1982"/>
                  </a:lnTo>
                  <a:lnTo>
                    <a:pt x="348" y="2021"/>
                  </a:lnTo>
                  <a:lnTo>
                    <a:pt x="590" y="2021"/>
                  </a:lnTo>
                  <a:lnTo>
                    <a:pt x="790" y="2021"/>
                  </a:lnTo>
                  <a:lnTo>
                    <a:pt x="1063" y="2021"/>
                  </a:lnTo>
                  <a:lnTo>
                    <a:pt x="1272" y="1999"/>
                  </a:lnTo>
                  <a:lnTo>
                    <a:pt x="1409" y="1982"/>
                  </a:lnTo>
                  <a:lnTo>
                    <a:pt x="1574" y="1961"/>
                  </a:lnTo>
                  <a:lnTo>
                    <a:pt x="1652" y="1920"/>
                  </a:lnTo>
                  <a:lnTo>
                    <a:pt x="1485" y="1944"/>
                  </a:lnTo>
                  <a:lnTo>
                    <a:pt x="1395" y="1944"/>
                  </a:lnTo>
                  <a:lnTo>
                    <a:pt x="1426" y="1920"/>
                  </a:lnTo>
                  <a:lnTo>
                    <a:pt x="1574" y="1901"/>
                  </a:lnTo>
                  <a:lnTo>
                    <a:pt x="1680" y="1863"/>
                  </a:lnTo>
                  <a:lnTo>
                    <a:pt x="1801" y="1745"/>
                  </a:lnTo>
                  <a:lnTo>
                    <a:pt x="1893" y="1645"/>
                  </a:lnTo>
                  <a:lnTo>
                    <a:pt x="1923" y="1569"/>
                  </a:lnTo>
                  <a:lnTo>
                    <a:pt x="1939" y="1412"/>
                  </a:lnTo>
                  <a:lnTo>
                    <a:pt x="1939" y="1315"/>
                  </a:lnTo>
                  <a:lnTo>
                    <a:pt x="1909" y="1215"/>
                  </a:lnTo>
                  <a:lnTo>
                    <a:pt x="1861" y="1118"/>
                  </a:lnTo>
                  <a:lnTo>
                    <a:pt x="1815" y="1058"/>
                  </a:lnTo>
                  <a:lnTo>
                    <a:pt x="1847" y="1001"/>
                  </a:lnTo>
                  <a:lnTo>
                    <a:pt x="1847" y="942"/>
                  </a:lnTo>
                  <a:lnTo>
                    <a:pt x="1847" y="863"/>
                  </a:lnTo>
                  <a:lnTo>
                    <a:pt x="1815" y="784"/>
                  </a:lnTo>
                  <a:lnTo>
                    <a:pt x="1772" y="725"/>
                  </a:lnTo>
                  <a:lnTo>
                    <a:pt x="1712" y="666"/>
                  </a:lnTo>
                  <a:lnTo>
                    <a:pt x="1620" y="626"/>
                  </a:lnTo>
                  <a:lnTo>
                    <a:pt x="1591" y="607"/>
                  </a:lnTo>
                  <a:lnTo>
                    <a:pt x="1560" y="588"/>
                  </a:lnTo>
                  <a:lnTo>
                    <a:pt x="1544" y="549"/>
                  </a:lnTo>
                  <a:lnTo>
                    <a:pt x="1544" y="471"/>
                  </a:lnTo>
                  <a:lnTo>
                    <a:pt x="1544" y="392"/>
                  </a:lnTo>
                  <a:lnTo>
                    <a:pt x="1528" y="352"/>
                  </a:lnTo>
                  <a:lnTo>
                    <a:pt x="1514" y="293"/>
                  </a:lnTo>
                  <a:lnTo>
                    <a:pt x="1471" y="257"/>
                  </a:lnTo>
                  <a:lnTo>
                    <a:pt x="1498" y="216"/>
                  </a:lnTo>
                  <a:lnTo>
                    <a:pt x="1528" y="157"/>
                  </a:lnTo>
                  <a:lnTo>
                    <a:pt x="1528" y="100"/>
                  </a:lnTo>
                  <a:lnTo>
                    <a:pt x="1498" y="58"/>
                  </a:lnTo>
                  <a:lnTo>
                    <a:pt x="1471" y="41"/>
                  </a:lnTo>
                  <a:lnTo>
                    <a:pt x="1379" y="41"/>
                  </a:lnTo>
                  <a:lnTo>
                    <a:pt x="1347" y="58"/>
                  </a:lnTo>
                  <a:lnTo>
                    <a:pt x="1334" y="117"/>
                  </a:lnTo>
                  <a:lnTo>
                    <a:pt x="1302" y="139"/>
                  </a:lnTo>
                  <a:lnTo>
                    <a:pt x="1210" y="139"/>
                  </a:lnTo>
                  <a:lnTo>
                    <a:pt x="1168" y="139"/>
                  </a:lnTo>
                  <a:lnTo>
                    <a:pt x="1106" y="157"/>
                  </a:lnTo>
                  <a:lnTo>
                    <a:pt x="1045" y="157"/>
                  </a:lnTo>
                  <a:lnTo>
                    <a:pt x="1287" y="157"/>
                  </a:lnTo>
                  <a:lnTo>
                    <a:pt x="1334" y="157"/>
                  </a:lnTo>
                  <a:lnTo>
                    <a:pt x="1379" y="100"/>
                  </a:lnTo>
                  <a:lnTo>
                    <a:pt x="1453" y="100"/>
                  </a:lnTo>
                  <a:lnTo>
                    <a:pt x="1498" y="139"/>
                  </a:lnTo>
                  <a:lnTo>
                    <a:pt x="1485" y="198"/>
                  </a:lnTo>
                  <a:lnTo>
                    <a:pt x="1471" y="238"/>
                  </a:lnTo>
                  <a:lnTo>
                    <a:pt x="1426" y="238"/>
                  </a:lnTo>
                  <a:lnTo>
                    <a:pt x="1471" y="293"/>
                  </a:lnTo>
                  <a:lnTo>
                    <a:pt x="1498" y="430"/>
                  </a:lnTo>
                  <a:lnTo>
                    <a:pt x="1498" y="511"/>
                  </a:lnTo>
                  <a:lnTo>
                    <a:pt x="1485" y="549"/>
                  </a:lnTo>
                  <a:lnTo>
                    <a:pt x="1574" y="607"/>
                  </a:lnTo>
                  <a:lnTo>
                    <a:pt x="1652" y="666"/>
                  </a:lnTo>
                  <a:lnTo>
                    <a:pt x="1728" y="744"/>
                  </a:lnTo>
                  <a:lnTo>
                    <a:pt x="1755" y="825"/>
                  </a:lnTo>
                  <a:lnTo>
                    <a:pt x="1772" y="882"/>
                  </a:lnTo>
                  <a:lnTo>
                    <a:pt x="1755" y="942"/>
                  </a:lnTo>
                  <a:lnTo>
                    <a:pt x="1712" y="923"/>
                  </a:lnTo>
                  <a:lnTo>
                    <a:pt x="1728" y="961"/>
                  </a:lnTo>
                  <a:lnTo>
                    <a:pt x="1755" y="1020"/>
                  </a:lnTo>
                  <a:lnTo>
                    <a:pt x="1772" y="1118"/>
                  </a:lnTo>
                  <a:lnTo>
                    <a:pt x="1801" y="1177"/>
                  </a:lnTo>
                  <a:lnTo>
                    <a:pt x="1801" y="1256"/>
                  </a:lnTo>
                  <a:lnTo>
                    <a:pt x="1801" y="1334"/>
                  </a:lnTo>
                  <a:lnTo>
                    <a:pt x="1785" y="1431"/>
                  </a:lnTo>
                  <a:lnTo>
                    <a:pt x="1755" y="1471"/>
                  </a:lnTo>
                  <a:lnTo>
                    <a:pt x="1712" y="1529"/>
                  </a:lnTo>
                  <a:lnTo>
                    <a:pt x="1666" y="1569"/>
                  </a:lnTo>
                  <a:lnTo>
                    <a:pt x="1620" y="1569"/>
                  </a:lnTo>
                  <a:lnTo>
                    <a:pt x="1498" y="1569"/>
                  </a:lnTo>
                  <a:lnTo>
                    <a:pt x="1379" y="1548"/>
                  </a:lnTo>
                  <a:lnTo>
                    <a:pt x="1196" y="1529"/>
                  </a:lnTo>
                  <a:lnTo>
                    <a:pt x="1106" y="1529"/>
                  </a:lnTo>
                  <a:lnTo>
                    <a:pt x="939" y="1529"/>
                  </a:lnTo>
                  <a:lnTo>
                    <a:pt x="728" y="1510"/>
                  </a:lnTo>
                  <a:lnTo>
                    <a:pt x="577" y="1471"/>
                  </a:lnTo>
                  <a:lnTo>
                    <a:pt x="453" y="1412"/>
                  </a:lnTo>
                  <a:lnTo>
                    <a:pt x="348" y="1353"/>
                  </a:lnTo>
                  <a:lnTo>
                    <a:pt x="228" y="1295"/>
                  </a:lnTo>
                  <a:lnTo>
                    <a:pt x="151" y="1256"/>
                  </a:lnTo>
                  <a:lnTo>
                    <a:pt x="121" y="1236"/>
                  </a:lnTo>
                  <a:lnTo>
                    <a:pt x="105" y="1215"/>
                  </a:lnTo>
                  <a:lnTo>
                    <a:pt x="121" y="1156"/>
                  </a:lnTo>
                  <a:lnTo>
                    <a:pt x="151" y="1098"/>
                  </a:lnTo>
                  <a:lnTo>
                    <a:pt x="199" y="1042"/>
                  </a:lnTo>
                  <a:lnTo>
                    <a:pt x="259" y="982"/>
                  </a:lnTo>
                  <a:lnTo>
                    <a:pt x="304" y="923"/>
                  </a:lnTo>
                  <a:lnTo>
                    <a:pt x="348" y="882"/>
                  </a:lnTo>
                  <a:lnTo>
                    <a:pt x="348" y="784"/>
                  </a:lnTo>
                  <a:lnTo>
                    <a:pt x="363" y="744"/>
                  </a:lnTo>
                  <a:lnTo>
                    <a:pt x="409" y="703"/>
                  </a:lnTo>
                  <a:lnTo>
                    <a:pt x="485" y="647"/>
                  </a:lnTo>
                  <a:lnTo>
                    <a:pt x="577" y="607"/>
                  </a:lnTo>
                  <a:lnTo>
                    <a:pt x="669" y="588"/>
                  </a:lnTo>
                  <a:lnTo>
                    <a:pt x="744" y="568"/>
                  </a:lnTo>
                  <a:lnTo>
                    <a:pt x="836" y="568"/>
                  </a:lnTo>
                  <a:lnTo>
                    <a:pt x="790" y="549"/>
                  </a:lnTo>
                  <a:lnTo>
                    <a:pt x="774" y="471"/>
                  </a:lnTo>
                  <a:lnTo>
                    <a:pt x="774" y="392"/>
                  </a:lnTo>
                  <a:lnTo>
                    <a:pt x="774" y="333"/>
                  </a:lnTo>
                  <a:lnTo>
                    <a:pt x="804" y="274"/>
                  </a:lnTo>
                  <a:lnTo>
                    <a:pt x="836" y="238"/>
                  </a:lnTo>
                  <a:lnTo>
                    <a:pt x="850" y="216"/>
                  </a:lnTo>
                  <a:lnTo>
                    <a:pt x="804" y="216"/>
                  </a:lnTo>
                  <a:lnTo>
                    <a:pt x="818" y="157"/>
                  </a:lnTo>
                  <a:lnTo>
                    <a:pt x="836" y="100"/>
                  </a:lnTo>
                  <a:lnTo>
                    <a:pt x="877" y="77"/>
                  </a:lnTo>
                  <a:lnTo>
                    <a:pt x="939" y="41"/>
                  </a:lnTo>
                  <a:lnTo>
                    <a:pt x="985" y="41"/>
                  </a:lnTo>
                  <a:lnTo>
                    <a:pt x="1002" y="157"/>
                  </a:lnTo>
                  <a:lnTo>
                    <a:pt x="1075" y="117"/>
                  </a:lnTo>
                  <a:lnTo>
                    <a:pt x="102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 flipH="1">
              <a:off x="7684560" y="5683320"/>
              <a:ext cx="81360" cy="80640"/>
            </a:xfrm>
            <a:custGeom>
              <a:avLst/>
              <a:gdLst>
                <a:gd name="textAreaLeft" fmla="*/ 360 w 81360"/>
                <a:gd name="textAreaRight" fmla="*/ 82080 w 813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1" h="176">
                  <a:moveTo>
                    <a:pt x="74" y="0"/>
                  </a:moveTo>
                  <a:lnTo>
                    <a:pt x="14" y="38"/>
                  </a:lnTo>
                  <a:lnTo>
                    <a:pt x="0" y="96"/>
                  </a:lnTo>
                  <a:lnTo>
                    <a:pt x="0" y="138"/>
                  </a:lnTo>
                  <a:lnTo>
                    <a:pt x="14" y="176"/>
                  </a:lnTo>
                  <a:lnTo>
                    <a:pt x="62" y="157"/>
                  </a:lnTo>
                  <a:lnTo>
                    <a:pt x="74" y="96"/>
                  </a:lnTo>
                  <a:lnTo>
                    <a:pt x="108" y="58"/>
                  </a:lnTo>
                  <a:lnTo>
                    <a:pt x="151" y="20"/>
                  </a:lnTo>
                  <a:lnTo>
                    <a:pt x="120" y="2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25"/>
            <p:cNvSpPr/>
            <p:nvPr/>
          </p:nvSpPr>
          <p:spPr>
            <a:xfrm flipH="1">
              <a:off x="7561080" y="5692680"/>
              <a:ext cx="74520" cy="80280"/>
            </a:xfrm>
            <a:custGeom>
              <a:avLst/>
              <a:gdLst>
                <a:gd name="textAreaLeft" fmla="*/ -360 w 74520"/>
                <a:gd name="textAreaRight" fmla="*/ 74520 w 745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38" h="176">
                  <a:moveTo>
                    <a:pt x="48" y="0"/>
                  </a:moveTo>
                  <a:lnTo>
                    <a:pt x="14" y="38"/>
                  </a:lnTo>
                  <a:lnTo>
                    <a:pt x="14" y="76"/>
                  </a:lnTo>
                  <a:lnTo>
                    <a:pt x="0" y="137"/>
                  </a:lnTo>
                  <a:lnTo>
                    <a:pt x="30" y="156"/>
                  </a:lnTo>
                  <a:lnTo>
                    <a:pt x="76" y="156"/>
                  </a:lnTo>
                  <a:lnTo>
                    <a:pt x="138" y="176"/>
                  </a:lnTo>
                  <a:lnTo>
                    <a:pt x="106" y="118"/>
                  </a:lnTo>
                  <a:lnTo>
                    <a:pt x="122" y="76"/>
                  </a:lnTo>
                  <a:lnTo>
                    <a:pt x="138" y="38"/>
                  </a:lnTo>
                  <a:lnTo>
                    <a:pt x="122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26"/>
            <p:cNvSpPr/>
            <p:nvPr/>
          </p:nvSpPr>
          <p:spPr>
            <a:xfrm flipH="1">
              <a:off x="7561440" y="5800320"/>
              <a:ext cx="237600" cy="81360"/>
            </a:xfrm>
            <a:custGeom>
              <a:avLst/>
              <a:gdLst>
                <a:gd name="textAreaLeft" fmla="*/ 360 w 237600"/>
                <a:gd name="textAreaRight" fmla="*/ 238320 w 237600"/>
                <a:gd name="textAreaTop" fmla="*/ 0 h 81360"/>
                <a:gd name="textAreaBottom" fmla="*/ 81360 h 81360"/>
              </a:gdLst>
              <a:ahLst/>
              <a:rect l="textAreaLeft" t="textAreaTop" r="textAreaRight" b="textAreaBottom"/>
              <a:pathLst>
                <a:path w="440" h="178">
                  <a:moveTo>
                    <a:pt x="45" y="19"/>
                  </a:moveTo>
                  <a:lnTo>
                    <a:pt x="0" y="56"/>
                  </a:lnTo>
                  <a:lnTo>
                    <a:pt x="31" y="97"/>
                  </a:lnTo>
                  <a:lnTo>
                    <a:pt x="61" y="78"/>
                  </a:lnTo>
                  <a:lnTo>
                    <a:pt x="91" y="97"/>
                  </a:lnTo>
                  <a:lnTo>
                    <a:pt x="108" y="137"/>
                  </a:lnTo>
                  <a:lnTo>
                    <a:pt x="151" y="156"/>
                  </a:lnTo>
                  <a:lnTo>
                    <a:pt x="199" y="178"/>
                  </a:lnTo>
                  <a:lnTo>
                    <a:pt x="243" y="178"/>
                  </a:lnTo>
                  <a:lnTo>
                    <a:pt x="286" y="156"/>
                  </a:lnTo>
                  <a:lnTo>
                    <a:pt x="302" y="137"/>
                  </a:lnTo>
                  <a:lnTo>
                    <a:pt x="302" y="97"/>
                  </a:lnTo>
                  <a:lnTo>
                    <a:pt x="350" y="97"/>
                  </a:lnTo>
                  <a:lnTo>
                    <a:pt x="378" y="97"/>
                  </a:lnTo>
                  <a:lnTo>
                    <a:pt x="408" y="121"/>
                  </a:lnTo>
                  <a:lnTo>
                    <a:pt x="440" y="97"/>
                  </a:lnTo>
                  <a:lnTo>
                    <a:pt x="424" y="78"/>
                  </a:lnTo>
                  <a:lnTo>
                    <a:pt x="424" y="56"/>
                  </a:lnTo>
                  <a:lnTo>
                    <a:pt x="393" y="40"/>
                  </a:lnTo>
                  <a:lnTo>
                    <a:pt x="350" y="56"/>
                  </a:lnTo>
                  <a:lnTo>
                    <a:pt x="302" y="56"/>
                  </a:lnTo>
                  <a:lnTo>
                    <a:pt x="286" y="40"/>
                  </a:lnTo>
                  <a:lnTo>
                    <a:pt x="258" y="0"/>
                  </a:lnTo>
                  <a:lnTo>
                    <a:pt x="226" y="0"/>
                  </a:lnTo>
                  <a:lnTo>
                    <a:pt x="169" y="0"/>
                  </a:lnTo>
                  <a:lnTo>
                    <a:pt x="123" y="19"/>
                  </a:lnTo>
                  <a:lnTo>
                    <a:pt x="75" y="56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27"/>
            <p:cNvSpPr/>
            <p:nvPr/>
          </p:nvSpPr>
          <p:spPr>
            <a:xfrm flipH="1">
              <a:off x="7431480" y="5808960"/>
              <a:ext cx="629280" cy="278280"/>
            </a:xfrm>
            <a:custGeom>
              <a:avLst/>
              <a:gdLst>
                <a:gd name="textAreaLeft" fmla="*/ 360 w 629280"/>
                <a:gd name="textAreaRight" fmla="*/ 630000 w 62928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1165" h="608">
                  <a:moveTo>
                    <a:pt x="457" y="0"/>
                  </a:moveTo>
                  <a:lnTo>
                    <a:pt x="433" y="32"/>
                  </a:lnTo>
                  <a:lnTo>
                    <a:pt x="395" y="37"/>
                  </a:lnTo>
                  <a:lnTo>
                    <a:pt x="347" y="21"/>
                  </a:lnTo>
                  <a:lnTo>
                    <a:pt x="287" y="37"/>
                  </a:lnTo>
                  <a:lnTo>
                    <a:pt x="211" y="37"/>
                  </a:lnTo>
                  <a:lnTo>
                    <a:pt x="138" y="78"/>
                  </a:lnTo>
                  <a:lnTo>
                    <a:pt x="93" y="102"/>
                  </a:lnTo>
                  <a:lnTo>
                    <a:pt x="31" y="118"/>
                  </a:lnTo>
                  <a:lnTo>
                    <a:pt x="0" y="159"/>
                  </a:lnTo>
                  <a:lnTo>
                    <a:pt x="44" y="159"/>
                  </a:lnTo>
                  <a:lnTo>
                    <a:pt x="76" y="159"/>
                  </a:lnTo>
                  <a:lnTo>
                    <a:pt x="120" y="159"/>
                  </a:lnTo>
                  <a:lnTo>
                    <a:pt x="120" y="216"/>
                  </a:lnTo>
                  <a:lnTo>
                    <a:pt x="138" y="238"/>
                  </a:lnTo>
                  <a:lnTo>
                    <a:pt x="168" y="276"/>
                  </a:lnTo>
                  <a:lnTo>
                    <a:pt x="198" y="276"/>
                  </a:lnTo>
                  <a:lnTo>
                    <a:pt x="225" y="257"/>
                  </a:lnTo>
                  <a:lnTo>
                    <a:pt x="242" y="257"/>
                  </a:lnTo>
                  <a:lnTo>
                    <a:pt x="304" y="295"/>
                  </a:lnTo>
                  <a:lnTo>
                    <a:pt x="319" y="335"/>
                  </a:lnTo>
                  <a:lnTo>
                    <a:pt x="347" y="413"/>
                  </a:lnTo>
                  <a:lnTo>
                    <a:pt x="381" y="473"/>
                  </a:lnTo>
                  <a:lnTo>
                    <a:pt x="441" y="549"/>
                  </a:lnTo>
                  <a:lnTo>
                    <a:pt x="485" y="570"/>
                  </a:lnTo>
                  <a:lnTo>
                    <a:pt x="441" y="511"/>
                  </a:lnTo>
                  <a:lnTo>
                    <a:pt x="409" y="473"/>
                  </a:lnTo>
                  <a:lnTo>
                    <a:pt x="395" y="432"/>
                  </a:lnTo>
                  <a:lnTo>
                    <a:pt x="427" y="413"/>
                  </a:lnTo>
                  <a:lnTo>
                    <a:pt x="485" y="452"/>
                  </a:lnTo>
                  <a:lnTo>
                    <a:pt x="546" y="473"/>
                  </a:lnTo>
                  <a:lnTo>
                    <a:pt x="593" y="473"/>
                  </a:lnTo>
                  <a:lnTo>
                    <a:pt x="608" y="490"/>
                  </a:lnTo>
                  <a:lnTo>
                    <a:pt x="576" y="532"/>
                  </a:lnTo>
                  <a:lnTo>
                    <a:pt x="530" y="549"/>
                  </a:lnTo>
                  <a:lnTo>
                    <a:pt x="457" y="549"/>
                  </a:lnTo>
                  <a:lnTo>
                    <a:pt x="501" y="590"/>
                  </a:lnTo>
                  <a:lnTo>
                    <a:pt x="560" y="608"/>
                  </a:lnTo>
                  <a:lnTo>
                    <a:pt x="620" y="608"/>
                  </a:lnTo>
                  <a:lnTo>
                    <a:pt x="728" y="590"/>
                  </a:lnTo>
                  <a:lnTo>
                    <a:pt x="771" y="570"/>
                  </a:lnTo>
                  <a:lnTo>
                    <a:pt x="849" y="549"/>
                  </a:lnTo>
                  <a:lnTo>
                    <a:pt x="909" y="532"/>
                  </a:lnTo>
                  <a:lnTo>
                    <a:pt x="970" y="511"/>
                  </a:lnTo>
                  <a:lnTo>
                    <a:pt x="1044" y="473"/>
                  </a:lnTo>
                  <a:lnTo>
                    <a:pt x="1105" y="413"/>
                  </a:lnTo>
                  <a:lnTo>
                    <a:pt x="1135" y="354"/>
                  </a:lnTo>
                  <a:lnTo>
                    <a:pt x="1151" y="316"/>
                  </a:lnTo>
                  <a:lnTo>
                    <a:pt x="1165" y="276"/>
                  </a:lnTo>
                  <a:lnTo>
                    <a:pt x="1165" y="238"/>
                  </a:lnTo>
                  <a:lnTo>
                    <a:pt x="1151" y="216"/>
                  </a:lnTo>
                  <a:lnTo>
                    <a:pt x="1105" y="216"/>
                  </a:lnTo>
                  <a:lnTo>
                    <a:pt x="1030" y="238"/>
                  </a:lnTo>
                  <a:lnTo>
                    <a:pt x="909" y="257"/>
                  </a:lnTo>
                  <a:lnTo>
                    <a:pt x="893" y="257"/>
                  </a:lnTo>
                  <a:lnTo>
                    <a:pt x="735" y="260"/>
                  </a:lnTo>
                  <a:lnTo>
                    <a:pt x="636" y="257"/>
                  </a:lnTo>
                  <a:lnTo>
                    <a:pt x="516" y="238"/>
                  </a:lnTo>
                  <a:lnTo>
                    <a:pt x="441" y="216"/>
                  </a:lnTo>
                  <a:lnTo>
                    <a:pt x="376" y="181"/>
                  </a:lnTo>
                  <a:lnTo>
                    <a:pt x="336" y="167"/>
                  </a:lnTo>
                  <a:lnTo>
                    <a:pt x="304" y="159"/>
                  </a:lnTo>
                  <a:lnTo>
                    <a:pt x="381" y="216"/>
                  </a:lnTo>
                  <a:lnTo>
                    <a:pt x="457" y="257"/>
                  </a:lnTo>
                  <a:lnTo>
                    <a:pt x="546" y="276"/>
                  </a:lnTo>
                  <a:lnTo>
                    <a:pt x="654" y="276"/>
                  </a:lnTo>
                  <a:lnTo>
                    <a:pt x="759" y="295"/>
                  </a:lnTo>
                  <a:lnTo>
                    <a:pt x="849" y="295"/>
                  </a:lnTo>
                  <a:lnTo>
                    <a:pt x="938" y="276"/>
                  </a:lnTo>
                  <a:lnTo>
                    <a:pt x="970" y="276"/>
                  </a:lnTo>
                  <a:lnTo>
                    <a:pt x="1044" y="276"/>
                  </a:lnTo>
                  <a:lnTo>
                    <a:pt x="970" y="335"/>
                  </a:lnTo>
                  <a:lnTo>
                    <a:pt x="925" y="376"/>
                  </a:lnTo>
                  <a:lnTo>
                    <a:pt x="863" y="413"/>
                  </a:lnTo>
                  <a:lnTo>
                    <a:pt x="787" y="452"/>
                  </a:lnTo>
                  <a:lnTo>
                    <a:pt x="711" y="452"/>
                  </a:lnTo>
                  <a:lnTo>
                    <a:pt x="636" y="452"/>
                  </a:lnTo>
                  <a:lnTo>
                    <a:pt x="546" y="432"/>
                  </a:lnTo>
                  <a:lnTo>
                    <a:pt x="501" y="413"/>
                  </a:lnTo>
                  <a:lnTo>
                    <a:pt x="441" y="392"/>
                  </a:lnTo>
                  <a:lnTo>
                    <a:pt x="381" y="354"/>
                  </a:lnTo>
                  <a:lnTo>
                    <a:pt x="347" y="335"/>
                  </a:lnTo>
                  <a:lnTo>
                    <a:pt x="319" y="295"/>
                  </a:lnTo>
                  <a:lnTo>
                    <a:pt x="319" y="276"/>
                  </a:lnTo>
                  <a:lnTo>
                    <a:pt x="335" y="257"/>
                  </a:lnTo>
                  <a:lnTo>
                    <a:pt x="347" y="238"/>
                  </a:lnTo>
                  <a:lnTo>
                    <a:pt x="304" y="197"/>
                  </a:lnTo>
                  <a:lnTo>
                    <a:pt x="274" y="159"/>
                  </a:lnTo>
                  <a:lnTo>
                    <a:pt x="225" y="137"/>
                  </a:lnTo>
                  <a:lnTo>
                    <a:pt x="260" y="102"/>
                  </a:lnTo>
                  <a:lnTo>
                    <a:pt x="287" y="78"/>
                  </a:lnTo>
                  <a:lnTo>
                    <a:pt x="319" y="78"/>
                  </a:lnTo>
                  <a:lnTo>
                    <a:pt x="347" y="78"/>
                  </a:lnTo>
                  <a:lnTo>
                    <a:pt x="409" y="78"/>
                  </a:lnTo>
                  <a:lnTo>
                    <a:pt x="457" y="78"/>
                  </a:lnTo>
                  <a:lnTo>
                    <a:pt x="441" y="78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28"/>
            <p:cNvSpPr/>
            <p:nvPr/>
          </p:nvSpPr>
          <p:spPr>
            <a:xfrm flipH="1">
              <a:off x="7644600" y="6105960"/>
              <a:ext cx="228960" cy="52920"/>
            </a:xfrm>
            <a:custGeom>
              <a:avLst/>
              <a:gdLst>
                <a:gd name="textAreaLeft" fmla="*/ 360 w 228960"/>
                <a:gd name="textAreaRight" fmla="*/ 229680 w 2289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424" h="116">
                  <a:moveTo>
                    <a:pt x="0" y="19"/>
                  </a:moveTo>
                  <a:lnTo>
                    <a:pt x="48" y="0"/>
                  </a:lnTo>
                  <a:lnTo>
                    <a:pt x="110" y="19"/>
                  </a:lnTo>
                  <a:lnTo>
                    <a:pt x="154" y="57"/>
                  </a:lnTo>
                  <a:lnTo>
                    <a:pt x="213" y="78"/>
                  </a:lnTo>
                  <a:lnTo>
                    <a:pt x="273" y="78"/>
                  </a:lnTo>
                  <a:lnTo>
                    <a:pt x="364" y="57"/>
                  </a:lnTo>
                  <a:lnTo>
                    <a:pt x="424" y="38"/>
                  </a:lnTo>
                  <a:lnTo>
                    <a:pt x="350" y="78"/>
                  </a:lnTo>
                  <a:lnTo>
                    <a:pt x="273" y="97"/>
                  </a:lnTo>
                  <a:lnTo>
                    <a:pt x="199" y="116"/>
                  </a:lnTo>
                  <a:lnTo>
                    <a:pt x="138" y="116"/>
                  </a:lnTo>
                  <a:lnTo>
                    <a:pt x="48" y="116"/>
                  </a:lnTo>
                  <a:lnTo>
                    <a:pt x="18" y="78"/>
                  </a:lnTo>
                  <a:lnTo>
                    <a:pt x="18" y="5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29"/>
            <p:cNvSpPr/>
            <p:nvPr/>
          </p:nvSpPr>
          <p:spPr>
            <a:xfrm flipH="1">
              <a:off x="7357320" y="5825880"/>
              <a:ext cx="203760" cy="91800"/>
            </a:xfrm>
            <a:custGeom>
              <a:avLst/>
              <a:gdLst>
                <a:gd name="textAreaLeft" fmla="*/ 360 w 203760"/>
                <a:gd name="textAreaRight" fmla="*/ 204480 w 203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8" h="201">
                  <a:moveTo>
                    <a:pt x="45" y="22"/>
                  </a:moveTo>
                  <a:lnTo>
                    <a:pt x="92" y="65"/>
                  </a:lnTo>
                  <a:lnTo>
                    <a:pt x="151" y="65"/>
                  </a:lnTo>
                  <a:lnTo>
                    <a:pt x="210" y="65"/>
                  </a:lnTo>
                  <a:lnTo>
                    <a:pt x="240" y="41"/>
                  </a:lnTo>
                  <a:lnTo>
                    <a:pt x="286" y="65"/>
                  </a:lnTo>
                  <a:lnTo>
                    <a:pt x="346" y="100"/>
                  </a:lnTo>
                  <a:lnTo>
                    <a:pt x="361" y="122"/>
                  </a:lnTo>
                  <a:lnTo>
                    <a:pt x="378" y="160"/>
                  </a:lnTo>
                  <a:lnTo>
                    <a:pt x="346" y="179"/>
                  </a:lnTo>
                  <a:lnTo>
                    <a:pt x="332" y="201"/>
                  </a:lnTo>
                  <a:lnTo>
                    <a:pt x="257" y="160"/>
                  </a:lnTo>
                  <a:lnTo>
                    <a:pt x="226" y="141"/>
                  </a:lnTo>
                  <a:lnTo>
                    <a:pt x="210" y="122"/>
                  </a:lnTo>
                  <a:lnTo>
                    <a:pt x="119" y="100"/>
                  </a:lnTo>
                  <a:lnTo>
                    <a:pt x="45" y="81"/>
                  </a:lnTo>
                  <a:lnTo>
                    <a:pt x="0" y="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30"/>
            <p:cNvSpPr/>
            <p:nvPr/>
          </p:nvSpPr>
          <p:spPr>
            <a:xfrm flipH="1">
              <a:off x="7651080" y="5602680"/>
              <a:ext cx="131040" cy="723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43" h="158">
                  <a:moveTo>
                    <a:pt x="0" y="158"/>
                  </a:moveTo>
                  <a:lnTo>
                    <a:pt x="30" y="99"/>
                  </a:lnTo>
                  <a:lnTo>
                    <a:pt x="77" y="58"/>
                  </a:lnTo>
                  <a:lnTo>
                    <a:pt x="120" y="22"/>
                  </a:lnTo>
                  <a:lnTo>
                    <a:pt x="181" y="0"/>
                  </a:lnTo>
                  <a:lnTo>
                    <a:pt x="227" y="0"/>
                  </a:lnTo>
                  <a:lnTo>
                    <a:pt x="243" y="22"/>
                  </a:lnTo>
                  <a:lnTo>
                    <a:pt x="227" y="58"/>
                  </a:lnTo>
                  <a:lnTo>
                    <a:pt x="195" y="58"/>
                  </a:lnTo>
                  <a:lnTo>
                    <a:pt x="138" y="77"/>
                  </a:lnTo>
                  <a:lnTo>
                    <a:pt x="77" y="9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31"/>
            <p:cNvSpPr/>
            <p:nvPr/>
          </p:nvSpPr>
          <p:spPr>
            <a:xfrm flipH="1">
              <a:off x="7520400" y="5602680"/>
              <a:ext cx="65880" cy="89640"/>
            </a:xfrm>
            <a:custGeom>
              <a:avLst/>
              <a:gdLst>
                <a:gd name="textAreaLeft" fmla="*/ -360 w 65880"/>
                <a:gd name="textAreaRight" fmla="*/ 65880 w 6588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122" h="196">
                  <a:moveTo>
                    <a:pt x="0" y="41"/>
                  </a:moveTo>
                  <a:lnTo>
                    <a:pt x="47" y="58"/>
                  </a:lnTo>
                  <a:lnTo>
                    <a:pt x="92" y="117"/>
                  </a:lnTo>
                  <a:lnTo>
                    <a:pt x="108" y="158"/>
                  </a:lnTo>
                  <a:lnTo>
                    <a:pt x="122" y="196"/>
                  </a:lnTo>
                  <a:lnTo>
                    <a:pt x="108" y="99"/>
                  </a:lnTo>
                  <a:lnTo>
                    <a:pt x="76" y="58"/>
                  </a:lnTo>
                  <a:lnTo>
                    <a:pt x="60" y="22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32"/>
            <p:cNvSpPr/>
            <p:nvPr/>
          </p:nvSpPr>
          <p:spPr>
            <a:xfrm flipH="1">
              <a:off x="7259040" y="5234400"/>
              <a:ext cx="1062360" cy="503280"/>
            </a:xfrm>
            <a:custGeom>
              <a:avLst/>
              <a:gdLst>
                <a:gd name="textAreaLeft" fmla="*/ -360 w 1062360"/>
                <a:gd name="textAreaRight" fmla="*/ 1062360 w 10623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967" h="1100">
                  <a:moveTo>
                    <a:pt x="1921" y="21"/>
                  </a:moveTo>
                  <a:lnTo>
                    <a:pt x="1726" y="0"/>
                  </a:lnTo>
                  <a:lnTo>
                    <a:pt x="1437" y="0"/>
                  </a:lnTo>
                  <a:lnTo>
                    <a:pt x="1103" y="0"/>
                  </a:lnTo>
                  <a:lnTo>
                    <a:pt x="770" y="79"/>
                  </a:lnTo>
                  <a:lnTo>
                    <a:pt x="454" y="176"/>
                  </a:lnTo>
                  <a:lnTo>
                    <a:pt x="255" y="295"/>
                  </a:lnTo>
                  <a:lnTo>
                    <a:pt x="151" y="354"/>
                  </a:lnTo>
                  <a:lnTo>
                    <a:pt x="14" y="666"/>
                  </a:lnTo>
                  <a:lnTo>
                    <a:pt x="0" y="846"/>
                  </a:lnTo>
                  <a:lnTo>
                    <a:pt x="44" y="981"/>
                  </a:lnTo>
                  <a:lnTo>
                    <a:pt x="195" y="1077"/>
                  </a:lnTo>
                  <a:lnTo>
                    <a:pt x="378" y="1100"/>
                  </a:lnTo>
                  <a:lnTo>
                    <a:pt x="527" y="1019"/>
                  </a:lnTo>
                  <a:lnTo>
                    <a:pt x="651" y="922"/>
                  </a:lnTo>
                  <a:lnTo>
                    <a:pt x="757" y="827"/>
                  </a:lnTo>
                  <a:lnTo>
                    <a:pt x="802" y="746"/>
                  </a:lnTo>
                  <a:lnTo>
                    <a:pt x="725" y="609"/>
                  </a:lnTo>
                  <a:lnTo>
                    <a:pt x="621" y="728"/>
                  </a:lnTo>
                  <a:lnTo>
                    <a:pt x="514" y="846"/>
                  </a:lnTo>
                  <a:lnTo>
                    <a:pt x="362" y="963"/>
                  </a:lnTo>
                  <a:lnTo>
                    <a:pt x="255" y="1001"/>
                  </a:lnTo>
                  <a:lnTo>
                    <a:pt x="195" y="1019"/>
                  </a:lnTo>
                  <a:lnTo>
                    <a:pt x="348" y="922"/>
                  </a:lnTo>
                  <a:lnTo>
                    <a:pt x="437" y="827"/>
                  </a:lnTo>
                  <a:lnTo>
                    <a:pt x="527" y="706"/>
                  </a:lnTo>
                  <a:lnTo>
                    <a:pt x="302" y="904"/>
                  </a:lnTo>
                  <a:lnTo>
                    <a:pt x="225" y="963"/>
                  </a:lnTo>
                  <a:lnTo>
                    <a:pt x="122" y="922"/>
                  </a:lnTo>
                  <a:lnTo>
                    <a:pt x="105" y="827"/>
                  </a:lnTo>
                  <a:lnTo>
                    <a:pt x="122" y="666"/>
                  </a:lnTo>
                  <a:lnTo>
                    <a:pt x="167" y="474"/>
                  </a:lnTo>
                  <a:lnTo>
                    <a:pt x="255" y="354"/>
                  </a:lnTo>
                  <a:lnTo>
                    <a:pt x="467" y="216"/>
                  </a:lnTo>
                  <a:lnTo>
                    <a:pt x="681" y="157"/>
                  </a:lnTo>
                  <a:lnTo>
                    <a:pt x="924" y="100"/>
                  </a:lnTo>
                  <a:lnTo>
                    <a:pt x="1242" y="40"/>
                  </a:lnTo>
                  <a:lnTo>
                    <a:pt x="1513" y="21"/>
                  </a:lnTo>
                  <a:lnTo>
                    <a:pt x="1816" y="60"/>
                  </a:lnTo>
                  <a:lnTo>
                    <a:pt x="1967" y="100"/>
                  </a:lnTo>
                  <a:lnTo>
                    <a:pt x="19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33"/>
            <p:cNvSpPr/>
            <p:nvPr/>
          </p:nvSpPr>
          <p:spPr>
            <a:xfrm flipH="1">
              <a:off x="7324920" y="5315040"/>
              <a:ext cx="866880" cy="215640"/>
            </a:xfrm>
            <a:custGeom>
              <a:avLst/>
              <a:gdLst>
                <a:gd name="textAreaLeft" fmla="*/ 360 w 866880"/>
                <a:gd name="textAreaRight" fmla="*/ 867600 w 86688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605" h="471">
                  <a:moveTo>
                    <a:pt x="61" y="276"/>
                  </a:moveTo>
                  <a:lnTo>
                    <a:pt x="335" y="140"/>
                  </a:lnTo>
                  <a:lnTo>
                    <a:pt x="637" y="59"/>
                  </a:lnTo>
                  <a:lnTo>
                    <a:pt x="926" y="22"/>
                  </a:lnTo>
                  <a:lnTo>
                    <a:pt x="1167" y="0"/>
                  </a:lnTo>
                  <a:lnTo>
                    <a:pt x="1393" y="0"/>
                  </a:lnTo>
                  <a:lnTo>
                    <a:pt x="1528" y="22"/>
                  </a:lnTo>
                  <a:lnTo>
                    <a:pt x="1605" y="40"/>
                  </a:lnTo>
                  <a:lnTo>
                    <a:pt x="1513" y="140"/>
                  </a:lnTo>
                  <a:lnTo>
                    <a:pt x="1439" y="198"/>
                  </a:lnTo>
                  <a:lnTo>
                    <a:pt x="1393" y="276"/>
                  </a:lnTo>
                  <a:lnTo>
                    <a:pt x="1361" y="276"/>
                  </a:lnTo>
                  <a:lnTo>
                    <a:pt x="1393" y="178"/>
                  </a:lnTo>
                  <a:lnTo>
                    <a:pt x="1499" y="59"/>
                  </a:lnTo>
                  <a:lnTo>
                    <a:pt x="1318" y="160"/>
                  </a:lnTo>
                  <a:lnTo>
                    <a:pt x="1120" y="178"/>
                  </a:lnTo>
                  <a:lnTo>
                    <a:pt x="862" y="178"/>
                  </a:lnTo>
                  <a:lnTo>
                    <a:pt x="651" y="238"/>
                  </a:lnTo>
                  <a:lnTo>
                    <a:pt x="484" y="298"/>
                  </a:lnTo>
                  <a:lnTo>
                    <a:pt x="380" y="335"/>
                  </a:lnTo>
                  <a:lnTo>
                    <a:pt x="484" y="413"/>
                  </a:lnTo>
                  <a:lnTo>
                    <a:pt x="396" y="471"/>
                  </a:lnTo>
                  <a:lnTo>
                    <a:pt x="335" y="433"/>
                  </a:lnTo>
                  <a:lnTo>
                    <a:pt x="350" y="335"/>
                  </a:lnTo>
                  <a:lnTo>
                    <a:pt x="273" y="471"/>
                  </a:lnTo>
                  <a:lnTo>
                    <a:pt x="169" y="335"/>
                  </a:lnTo>
                  <a:lnTo>
                    <a:pt x="0" y="316"/>
                  </a:lnTo>
                  <a:lnTo>
                    <a:pt x="61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34"/>
            <p:cNvSpPr/>
            <p:nvPr/>
          </p:nvSpPr>
          <p:spPr>
            <a:xfrm flipH="1">
              <a:off x="7095960" y="5288760"/>
              <a:ext cx="376200" cy="367560"/>
            </a:xfrm>
            <a:custGeom>
              <a:avLst/>
              <a:gdLst>
                <a:gd name="textAreaLeft" fmla="*/ -360 w 376200"/>
                <a:gd name="textAreaRight" fmla="*/ 376200 w 376200"/>
                <a:gd name="textAreaTop" fmla="*/ 0 h 367560"/>
                <a:gd name="textAreaBottom" fmla="*/ 367920 h 367560"/>
              </a:gdLst>
              <a:ahLst/>
              <a:rect l="textAreaLeft" t="textAreaTop" r="textAreaRight" b="textAreaBottom"/>
              <a:pathLst>
                <a:path w="697" h="803">
                  <a:moveTo>
                    <a:pt x="46" y="373"/>
                  </a:moveTo>
                  <a:lnTo>
                    <a:pt x="168" y="452"/>
                  </a:lnTo>
                  <a:lnTo>
                    <a:pt x="303" y="511"/>
                  </a:lnTo>
                  <a:lnTo>
                    <a:pt x="471" y="570"/>
                  </a:lnTo>
                  <a:lnTo>
                    <a:pt x="530" y="570"/>
                  </a:lnTo>
                  <a:lnTo>
                    <a:pt x="562" y="452"/>
                  </a:lnTo>
                  <a:lnTo>
                    <a:pt x="546" y="333"/>
                  </a:lnTo>
                  <a:lnTo>
                    <a:pt x="516" y="197"/>
                  </a:lnTo>
                  <a:lnTo>
                    <a:pt x="471" y="79"/>
                  </a:lnTo>
                  <a:lnTo>
                    <a:pt x="425" y="0"/>
                  </a:lnTo>
                  <a:lnTo>
                    <a:pt x="546" y="97"/>
                  </a:lnTo>
                  <a:lnTo>
                    <a:pt x="652" y="255"/>
                  </a:lnTo>
                  <a:lnTo>
                    <a:pt x="697" y="411"/>
                  </a:lnTo>
                  <a:lnTo>
                    <a:pt x="697" y="528"/>
                  </a:lnTo>
                  <a:lnTo>
                    <a:pt x="665" y="646"/>
                  </a:lnTo>
                  <a:lnTo>
                    <a:pt x="605" y="646"/>
                  </a:lnTo>
                  <a:lnTo>
                    <a:pt x="349" y="587"/>
                  </a:lnTo>
                  <a:lnTo>
                    <a:pt x="562" y="686"/>
                  </a:lnTo>
                  <a:lnTo>
                    <a:pt x="636" y="686"/>
                  </a:lnTo>
                  <a:lnTo>
                    <a:pt x="378" y="803"/>
                  </a:lnTo>
                  <a:lnTo>
                    <a:pt x="230" y="744"/>
                  </a:lnTo>
                  <a:lnTo>
                    <a:pt x="122" y="668"/>
                  </a:lnTo>
                  <a:lnTo>
                    <a:pt x="197" y="668"/>
                  </a:lnTo>
                  <a:lnTo>
                    <a:pt x="303" y="609"/>
                  </a:lnTo>
                  <a:lnTo>
                    <a:pt x="30" y="411"/>
                  </a:lnTo>
                  <a:lnTo>
                    <a:pt x="16" y="490"/>
                  </a:lnTo>
                  <a:lnTo>
                    <a:pt x="0" y="373"/>
                  </a:lnTo>
                  <a:lnTo>
                    <a:pt x="4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35"/>
            <p:cNvSpPr/>
            <p:nvPr/>
          </p:nvSpPr>
          <p:spPr>
            <a:xfrm flipH="1">
              <a:off x="8216640" y="5692680"/>
              <a:ext cx="268200" cy="367560"/>
            </a:xfrm>
            <a:custGeom>
              <a:avLst/>
              <a:gdLst>
                <a:gd name="textAreaLeft" fmla="*/ -360 w 268200"/>
                <a:gd name="textAreaRight" fmla="*/ 268200 w 268200"/>
                <a:gd name="textAreaTop" fmla="*/ 0 h 367560"/>
                <a:gd name="textAreaBottom" fmla="*/ 367920 h 367560"/>
              </a:gdLst>
              <a:ahLst/>
              <a:rect l="textAreaLeft" t="textAreaTop" r="textAreaRight" b="textAreaBottom"/>
              <a:pathLst>
                <a:path w="497" h="803">
                  <a:moveTo>
                    <a:pt x="376" y="0"/>
                  </a:moveTo>
                  <a:lnTo>
                    <a:pt x="270" y="118"/>
                  </a:lnTo>
                  <a:lnTo>
                    <a:pt x="240" y="176"/>
                  </a:lnTo>
                  <a:lnTo>
                    <a:pt x="286" y="195"/>
                  </a:lnTo>
                  <a:lnTo>
                    <a:pt x="61" y="332"/>
                  </a:lnTo>
                  <a:lnTo>
                    <a:pt x="0" y="391"/>
                  </a:lnTo>
                  <a:lnTo>
                    <a:pt x="61" y="492"/>
                  </a:lnTo>
                  <a:lnTo>
                    <a:pt x="135" y="413"/>
                  </a:lnTo>
                  <a:lnTo>
                    <a:pt x="211" y="356"/>
                  </a:lnTo>
                  <a:lnTo>
                    <a:pt x="61" y="530"/>
                  </a:lnTo>
                  <a:lnTo>
                    <a:pt x="119" y="570"/>
                  </a:lnTo>
                  <a:lnTo>
                    <a:pt x="316" y="432"/>
                  </a:lnTo>
                  <a:lnTo>
                    <a:pt x="270" y="570"/>
                  </a:lnTo>
                  <a:lnTo>
                    <a:pt x="194" y="686"/>
                  </a:lnTo>
                  <a:lnTo>
                    <a:pt x="270" y="765"/>
                  </a:lnTo>
                  <a:lnTo>
                    <a:pt x="392" y="630"/>
                  </a:lnTo>
                  <a:lnTo>
                    <a:pt x="316" y="803"/>
                  </a:lnTo>
                  <a:lnTo>
                    <a:pt x="497" y="511"/>
                  </a:lnTo>
                  <a:lnTo>
                    <a:pt x="469" y="470"/>
                  </a:lnTo>
                  <a:lnTo>
                    <a:pt x="346" y="549"/>
                  </a:lnTo>
                  <a:lnTo>
                    <a:pt x="392" y="391"/>
                  </a:lnTo>
                  <a:lnTo>
                    <a:pt x="376" y="313"/>
                  </a:lnTo>
                  <a:lnTo>
                    <a:pt x="240" y="391"/>
                  </a:lnTo>
                  <a:lnTo>
                    <a:pt x="392" y="235"/>
                  </a:lnTo>
                  <a:lnTo>
                    <a:pt x="362" y="156"/>
                  </a:lnTo>
                  <a:lnTo>
                    <a:pt x="334" y="156"/>
                  </a:lnTo>
                  <a:lnTo>
                    <a:pt x="481" y="18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36"/>
            <p:cNvSpPr/>
            <p:nvPr/>
          </p:nvSpPr>
          <p:spPr>
            <a:xfrm flipH="1">
              <a:off x="7138440" y="5981040"/>
              <a:ext cx="88560" cy="2595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259560"/>
                <a:gd name="textAreaBottom" fmla="*/ 259920 h 259560"/>
              </a:gdLst>
              <a:ahLst/>
              <a:rect l="textAreaLeft" t="textAreaTop" r="textAreaRight" b="textAreaBottom"/>
              <a:pathLst>
                <a:path w="164" h="567">
                  <a:moveTo>
                    <a:pt x="0" y="0"/>
                  </a:moveTo>
                  <a:lnTo>
                    <a:pt x="61" y="173"/>
                  </a:lnTo>
                  <a:lnTo>
                    <a:pt x="121" y="370"/>
                  </a:lnTo>
                  <a:lnTo>
                    <a:pt x="107" y="487"/>
                  </a:lnTo>
                  <a:lnTo>
                    <a:pt x="75" y="567"/>
                  </a:lnTo>
                  <a:lnTo>
                    <a:pt x="164" y="468"/>
                  </a:lnTo>
                  <a:lnTo>
                    <a:pt x="164" y="253"/>
                  </a:lnTo>
                  <a:lnTo>
                    <a:pt x="75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37"/>
            <p:cNvSpPr/>
            <p:nvPr/>
          </p:nvSpPr>
          <p:spPr>
            <a:xfrm flipH="1">
              <a:off x="6858360" y="5656320"/>
              <a:ext cx="418320" cy="98640"/>
            </a:xfrm>
            <a:custGeom>
              <a:avLst/>
              <a:gdLst>
                <a:gd name="textAreaLeft" fmla="*/ 360 w 418320"/>
                <a:gd name="textAreaRight" fmla="*/ 419040 w 4183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775" h="216">
                  <a:moveTo>
                    <a:pt x="0" y="216"/>
                  </a:moveTo>
                  <a:lnTo>
                    <a:pt x="712" y="0"/>
                  </a:lnTo>
                  <a:lnTo>
                    <a:pt x="775" y="216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38"/>
            <p:cNvSpPr/>
            <p:nvPr/>
          </p:nvSpPr>
          <p:spPr>
            <a:xfrm flipH="1">
              <a:off x="8028000" y="5028840"/>
              <a:ext cx="155880" cy="223560"/>
            </a:xfrm>
            <a:custGeom>
              <a:avLst/>
              <a:gdLst>
                <a:gd name="textAreaLeft" fmla="*/ -360 w 155880"/>
                <a:gd name="textAreaRight" fmla="*/ 155880 w 15588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289" h="489">
                  <a:moveTo>
                    <a:pt x="272" y="489"/>
                  </a:moveTo>
                  <a:lnTo>
                    <a:pt x="0" y="136"/>
                  </a:lnTo>
                  <a:lnTo>
                    <a:pt x="137" y="0"/>
                  </a:lnTo>
                  <a:lnTo>
                    <a:pt x="289" y="370"/>
                  </a:lnTo>
                  <a:lnTo>
                    <a:pt x="167" y="197"/>
                  </a:lnTo>
                  <a:lnTo>
                    <a:pt x="123" y="235"/>
                  </a:lnTo>
                  <a:lnTo>
                    <a:pt x="27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39"/>
            <p:cNvSpPr/>
            <p:nvPr/>
          </p:nvSpPr>
          <p:spPr>
            <a:xfrm flipH="1">
              <a:off x="7765920" y="4786200"/>
              <a:ext cx="196920" cy="403560"/>
            </a:xfrm>
            <a:custGeom>
              <a:avLst/>
              <a:gdLst>
                <a:gd name="textAreaLeft" fmla="*/ -360 w 196920"/>
                <a:gd name="textAreaRight" fmla="*/ 196920 w 19692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365" h="882">
                  <a:moveTo>
                    <a:pt x="123" y="882"/>
                  </a:moveTo>
                  <a:lnTo>
                    <a:pt x="0" y="176"/>
                  </a:lnTo>
                  <a:lnTo>
                    <a:pt x="365" y="0"/>
                  </a:lnTo>
                  <a:lnTo>
                    <a:pt x="349" y="706"/>
                  </a:lnTo>
                  <a:lnTo>
                    <a:pt x="287" y="176"/>
                  </a:lnTo>
                  <a:lnTo>
                    <a:pt x="246" y="159"/>
                  </a:lnTo>
                  <a:lnTo>
                    <a:pt x="93" y="238"/>
                  </a:lnTo>
                  <a:lnTo>
                    <a:pt x="61" y="297"/>
                  </a:lnTo>
                  <a:lnTo>
                    <a:pt x="123" y="8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0"/>
            <p:cNvSpPr/>
            <p:nvPr/>
          </p:nvSpPr>
          <p:spPr>
            <a:xfrm flipH="1">
              <a:off x="7480080" y="4866840"/>
              <a:ext cx="139680" cy="286920"/>
            </a:xfrm>
            <a:custGeom>
              <a:avLst/>
              <a:gdLst>
                <a:gd name="textAreaLeft" fmla="*/ 360 w 139680"/>
                <a:gd name="textAreaRight" fmla="*/ 140400 w 13968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259" h="627">
                  <a:moveTo>
                    <a:pt x="0" y="627"/>
                  </a:moveTo>
                  <a:lnTo>
                    <a:pt x="153" y="21"/>
                  </a:lnTo>
                  <a:lnTo>
                    <a:pt x="259" y="0"/>
                  </a:lnTo>
                  <a:lnTo>
                    <a:pt x="0" y="6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41"/>
            <p:cNvSpPr/>
            <p:nvPr/>
          </p:nvSpPr>
          <p:spPr>
            <a:xfrm flipH="1">
              <a:off x="7193880" y="5010120"/>
              <a:ext cx="180360" cy="135360"/>
            </a:xfrm>
            <a:custGeom>
              <a:avLst/>
              <a:gdLst>
                <a:gd name="textAreaLeft" fmla="*/ -360 w 180360"/>
                <a:gd name="textAreaRight" fmla="*/ 180360 w 18036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34" h="296">
                  <a:moveTo>
                    <a:pt x="0" y="296"/>
                  </a:moveTo>
                  <a:lnTo>
                    <a:pt x="273" y="0"/>
                  </a:lnTo>
                  <a:lnTo>
                    <a:pt x="334" y="60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42"/>
            <p:cNvSpPr/>
            <p:nvPr/>
          </p:nvSpPr>
          <p:spPr>
            <a:xfrm flipH="1">
              <a:off x="7701480" y="5145480"/>
              <a:ext cx="678960" cy="475920"/>
            </a:xfrm>
            <a:custGeom>
              <a:avLst/>
              <a:gdLst>
                <a:gd name="textAreaLeft" fmla="*/ 360 w 678960"/>
                <a:gd name="textAreaRight" fmla="*/ 679680 w 67896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1257" h="1040">
                  <a:moveTo>
                    <a:pt x="140" y="489"/>
                  </a:moveTo>
                  <a:lnTo>
                    <a:pt x="363" y="330"/>
                  </a:lnTo>
                  <a:lnTo>
                    <a:pt x="608" y="194"/>
                  </a:lnTo>
                  <a:lnTo>
                    <a:pt x="833" y="97"/>
                  </a:lnTo>
                  <a:lnTo>
                    <a:pt x="1048" y="39"/>
                  </a:lnTo>
                  <a:lnTo>
                    <a:pt x="1257" y="0"/>
                  </a:lnTo>
                  <a:lnTo>
                    <a:pt x="772" y="156"/>
                  </a:lnTo>
                  <a:lnTo>
                    <a:pt x="410" y="351"/>
                  </a:lnTo>
                  <a:lnTo>
                    <a:pt x="140" y="548"/>
                  </a:lnTo>
                  <a:lnTo>
                    <a:pt x="46" y="765"/>
                  </a:lnTo>
                  <a:lnTo>
                    <a:pt x="32" y="1040"/>
                  </a:lnTo>
                  <a:lnTo>
                    <a:pt x="0" y="765"/>
                  </a:lnTo>
                  <a:lnTo>
                    <a:pt x="76" y="530"/>
                  </a:lnTo>
                  <a:lnTo>
                    <a:pt x="140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43"/>
            <p:cNvSpPr/>
            <p:nvPr/>
          </p:nvSpPr>
          <p:spPr>
            <a:xfrm flipH="1">
              <a:off x="7030800" y="5163480"/>
              <a:ext cx="302760" cy="340560"/>
            </a:xfrm>
            <a:custGeom>
              <a:avLst/>
              <a:gdLst>
                <a:gd name="textAreaLeft" fmla="*/ -360 w 302760"/>
                <a:gd name="textAreaRight" fmla="*/ 302760 w 30276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561" h="744">
                  <a:moveTo>
                    <a:pt x="92" y="58"/>
                  </a:moveTo>
                  <a:lnTo>
                    <a:pt x="305" y="136"/>
                  </a:lnTo>
                  <a:lnTo>
                    <a:pt x="426" y="291"/>
                  </a:lnTo>
                  <a:lnTo>
                    <a:pt x="530" y="491"/>
                  </a:lnTo>
                  <a:lnTo>
                    <a:pt x="561" y="744"/>
                  </a:lnTo>
                  <a:lnTo>
                    <a:pt x="561" y="433"/>
                  </a:lnTo>
                  <a:lnTo>
                    <a:pt x="408" y="98"/>
                  </a:lnTo>
                  <a:lnTo>
                    <a:pt x="214" y="38"/>
                  </a:lnTo>
                  <a:lnTo>
                    <a:pt x="0" y="0"/>
                  </a:lnTo>
                  <a:lnTo>
                    <a:pt x="9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44"/>
            <p:cNvSpPr/>
            <p:nvPr/>
          </p:nvSpPr>
          <p:spPr>
            <a:xfrm flipH="1">
              <a:off x="8174520" y="6141960"/>
              <a:ext cx="196560" cy="197640"/>
            </a:xfrm>
            <a:custGeom>
              <a:avLst/>
              <a:gdLst>
                <a:gd name="textAreaLeft" fmla="*/ 360 w 196560"/>
                <a:gd name="textAreaRight" fmla="*/ 197280 w 19656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364" h="432">
                  <a:moveTo>
                    <a:pt x="59" y="0"/>
                  </a:moveTo>
                  <a:lnTo>
                    <a:pt x="364" y="432"/>
                  </a:lnTo>
                  <a:lnTo>
                    <a:pt x="0" y="1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  <p:sndAc>
      <p:stSnd>
        <p:snd r:embed="rId3" name="Phone_02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369800" y="1935000"/>
            <a:ext cx="7313400" cy="4011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4" descr="classrom_1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80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rcRect l="0" t="0" r="17476" b="0"/>
          <a:stretch/>
        </p:blipFill>
        <p:spPr>
          <a:xfrm>
            <a:off x="1908000" y="2708280"/>
            <a:ext cx="608040" cy="1730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2411280" y="2924280"/>
            <a:ext cx="1016280" cy="2894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4"/>
          <a:stretch/>
        </p:blipFill>
        <p:spPr>
          <a:xfrm>
            <a:off x="5148360" y="2781360"/>
            <a:ext cx="1015920" cy="2894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"/>
          <p:cNvPicPr/>
          <p:nvPr/>
        </p:nvPicPr>
        <p:blipFill>
          <a:blip r:embed="rId5"/>
          <a:stretch/>
        </p:blipFill>
        <p:spPr>
          <a:xfrm>
            <a:off x="4716360" y="3143160"/>
            <a:ext cx="1629000" cy="3714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6"/>
          <a:srcRect l="0" t="0" r="0" b="47694"/>
          <a:stretch/>
        </p:blipFill>
        <p:spPr>
          <a:xfrm>
            <a:off x="838080" y="2924280"/>
            <a:ext cx="1330560" cy="1585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7"/>
          <a:srcRect l="0" t="0" r="0" b="35231"/>
          <a:stretch/>
        </p:blipFill>
        <p:spPr>
          <a:xfrm>
            <a:off x="6465960" y="3068640"/>
            <a:ext cx="1209600" cy="223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"/>
          <p:cNvPicPr/>
          <p:nvPr/>
        </p:nvPicPr>
        <p:blipFill>
          <a:blip r:embed="rId8"/>
          <a:srcRect l="0" t="78463" r="47234" b="7423"/>
          <a:stretch/>
        </p:blipFill>
        <p:spPr>
          <a:xfrm>
            <a:off x="6443640" y="6021360"/>
            <a:ext cx="720720" cy="549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2016"/>
          <p:cNvPicPr/>
          <p:nvPr/>
        </p:nvPicPr>
        <p:blipFill>
          <a:blip r:embed="rId9"/>
          <a:stretch/>
        </p:blipFill>
        <p:spPr>
          <a:xfrm rot="20996400">
            <a:off x="6732360" y="1773360"/>
            <a:ext cx="914400" cy="4539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3"/>
          <p:cNvSpPr/>
          <p:nvPr/>
        </p:nvSpPr>
        <p:spPr>
          <a:xfrm>
            <a:off x="1782720" y="0"/>
            <a:ext cx="739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Comic Sans MS"/>
                <a:ea typeface="ヒラギノ角ゴ Pro W3"/>
              </a:rPr>
              <a:t>Plano de Evacuação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Comic Sans MS"/>
                <a:ea typeface="ヒラギノ角ゴ Pro W3"/>
              </a:rPr>
              <a:t>deve ser treinado em sala de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7"/>
          <p:cNvSpPr/>
          <p:nvPr/>
        </p:nvSpPr>
        <p:spPr>
          <a:xfrm>
            <a:off x="2286000" y="1052640"/>
            <a:ext cx="3941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  <a:ea typeface="ヒラギノ角ゴ Pro W3"/>
              </a:rPr>
              <a:t>Evacuação de uma Escola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  <a:ea typeface="ヒラギノ角ゴ Pro W3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29"/>
          <p:cNvGrpSpPr/>
          <p:nvPr/>
        </p:nvGrpSpPr>
        <p:grpSpPr>
          <a:xfrm>
            <a:off x="6300720" y="260280"/>
            <a:ext cx="2563920" cy="1040040"/>
            <a:chOff x="6300720" y="260280"/>
            <a:chExt cx="2563920" cy="1040040"/>
          </a:xfrm>
        </p:grpSpPr>
        <p:sp>
          <p:nvSpPr>
            <p:cNvPr id="163" name="AutoShape 28"/>
            <p:cNvSpPr/>
            <p:nvPr/>
          </p:nvSpPr>
          <p:spPr>
            <a:xfrm>
              <a:off x="6300720" y="260280"/>
              <a:ext cx="25574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4" name="Picture 30" descr=""/>
            <p:cNvPicPr/>
            <p:nvPr/>
          </p:nvPicPr>
          <p:blipFill>
            <a:blip r:embed="rId1"/>
            <a:stretch/>
          </p:blipFill>
          <p:spPr>
            <a:xfrm>
              <a:off x="6300720" y="260280"/>
              <a:ext cx="2563920" cy="104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Picture 34" descr="4224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98900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5" descr=""/>
          <p:cNvPicPr/>
          <p:nvPr/>
        </p:nvPicPr>
        <p:blipFill>
          <a:blip r:embed="rId4"/>
          <a:stretch/>
        </p:blipFill>
        <p:spPr>
          <a:xfrm>
            <a:off x="2214720" y="1571760"/>
            <a:ext cx="2808000" cy="1589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8" descr=""/>
          <p:cNvPicPr/>
          <p:nvPr/>
        </p:nvPicPr>
        <p:blipFill>
          <a:blip r:embed="rId5"/>
          <a:stretch/>
        </p:blipFill>
        <p:spPr>
          <a:xfrm>
            <a:off x="5500800" y="1571760"/>
            <a:ext cx="2808000" cy="1606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9" descr=""/>
          <p:cNvPicPr/>
          <p:nvPr/>
        </p:nvPicPr>
        <p:blipFill>
          <a:blip r:embed="rId6"/>
          <a:stretch/>
        </p:blipFill>
        <p:spPr>
          <a:xfrm>
            <a:off x="1428840" y="3286080"/>
            <a:ext cx="2663640" cy="1436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0" descr=""/>
          <p:cNvPicPr/>
          <p:nvPr/>
        </p:nvPicPr>
        <p:blipFill>
          <a:blip r:embed="rId7"/>
          <a:stretch/>
        </p:blipFill>
        <p:spPr>
          <a:xfrm>
            <a:off x="4572000" y="3789360"/>
            <a:ext cx="4103640" cy="259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Incendio_Escadas"/>
          <p:cNvPicPr/>
          <p:nvPr/>
        </p:nvPicPr>
        <p:blipFill>
          <a:blip r:embed="rId8"/>
          <a:stretch/>
        </p:blipFill>
        <p:spPr>
          <a:xfrm>
            <a:off x="0" y="4718160"/>
            <a:ext cx="2163600" cy="2139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Incendio_Fumo"/>
          <p:cNvPicPr/>
          <p:nvPr/>
        </p:nvPicPr>
        <p:blipFill>
          <a:blip r:embed="rId9"/>
          <a:stretch/>
        </p:blipFill>
        <p:spPr>
          <a:xfrm>
            <a:off x="2428920" y="4721400"/>
            <a:ext cx="2044800" cy="2136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0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Object 2" descr=""/>
          <p:cNvPicPr/>
          <p:nvPr/>
        </p:nvPicPr>
        <p:blipFill>
          <a:blip r:embed="rId1"/>
          <a:stretch/>
        </p:blipFill>
        <p:spPr>
          <a:xfrm>
            <a:off x="6012000" y="4005360"/>
            <a:ext cx="2743200" cy="26352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588960" y="60930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guarda ordens da Professor(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979640" y="309600"/>
            <a:ext cx="4968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mo sair da sala 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so de emergênc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744480" y="1773360"/>
            <a:ext cx="411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oca o sinal de alarm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674640" y="2205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eixa o material escola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655920" y="2637000"/>
            <a:ext cx="72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ai em ordem (por fila) atrás do chefe de fil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683640" y="306864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ada de correri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68160" y="3573360"/>
            <a:ext cx="75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gue o itinerário para a saída de emergênci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74640" y="4149720"/>
            <a:ext cx="670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tenção aos pontos críticos... CALM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716040" y="4653000"/>
            <a:ext cx="594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minha encostado à pared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681120" y="5157720"/>
            <a:ext cx="54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ão pares, não voltes para trá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657360" y="5661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egue para o local de reuniã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800"/>
                            </p:stCondLst>
                            <p:childTnLst>
                              <p:par>
                                <p:cTn id="1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609480" y="1995480"/>
            <a:ext cx="792504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438280" y="4952880"/>
            <a:ext cx="426744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447920" y="3505320"/>
            <a:ext cx="6324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7760" y="1063800"/>
            <a:ext cx="854856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3500" spc="-1" strike="noStrike">
                <a:solidFill>
                  <a:srgbClr val="0033cc"/>
                </a:solidFill>
                <a:latin typeface="Times New Roman"/>
                <a:ea typeface="ヒラギノ角ゴ Pro W3"/>
              </a:rPr>
              <a:t>Papel do professor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Times New Roman"/>
                <a:ea typeface="ヒラギノ角ゴ Pro W3"/>
              </a:rPr>
              <a:t>	</a:t>
            </a:r>
            <a:r>
              <a:rPr b="1" lang="en-US" sz="3100" spc="-1" strike="noStrike">
                <a:solidFill>
                  <a:srgbClr val="0033cc"/>
                </a:solidFill>
                <a:latin typeface="Times New Roman"/>
                <a:ea typeface="ヒラギノ角ゴ Pro W3"/>
              </a:rPr>
              <a:t>Durante a evacuação deve ser o último a sair da sala de modo a prestar auxílio aos alunos que se magoem ou fiquem assustados.  No final deverá certificar-se que não fica ninguém na sala e deve fechar a port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Object 7" descr=""/>
          <p:cNvPicPr/>
          <p:nvPr/>
        </p:nvPicPr>
        <p:blipFill>
          <a:blip r:embed="rId1"/>
          <a:stretch/>
        </p:blipFill>
        <p:spPr>
          <a:xfrm>
            <a:off x="1979640" y="4076640"/>
            <a:ext cx="5715000" cy="218916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8"/>
          <p:cNvSpPr/>
          <p:nvPr/>
        </p:nvSpPr>
        <p:spPr>
          <a:xfrm>
            <a:off x="882720" y="114480"/>
            <a:ext cx="7632720" cy="9381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ヒラギノ角ゴ Pro W3"/>
              </a:rPr>
              <a:t>Evacuação de sal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1462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13040"/>
            <a:ext cx="7543800" cy="1304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257800" y="20574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0" y="-52560"/>
            <a:ext cx="9914040" cy="6996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2010"/>
          <p:cNvPicPr/>
          <p:nvPr/>
        </p:nvPicPr>
        <p:blipFill>
          <a:blip r:embed="rId2"/>
          <a:stretch/>
        </p:blipFill>
        <p:spPr>
          <a:xfrm>
            <a:off x="4788000" y="1523880"/>
            <a:ext cx="1276200" cy="489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boy02"/>
          <p:cNvPicPr/>
          <p:nvPr/>
        </p:nvPicPr>
        <p:blipFill>
          <a:blip r:embed="rId3"/>
          <a:srcRect l="46588" t="0" r="0" b="0"/>
          <a:stretch/>
        </p:blipFill>
        <p:spPr>
          <a:xfrm>
            <a:off x="422280" y="2708280"/>
            <a:ext cx="2216160" cy="4149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boy02"/>
          <p:cNvPicPr/>
          <p:nvPr/>
        </p:nvPicPr>
        <p:blipFill>
          <a:blip r:embed="rId4"/>
          <a:srcRect l="0" t="0" r="53419" b="0"/>
          <a:stretch/>
        </p:blipFill>
        <p:spPr>
          <a:xfrm>
            <a:off x="4572000" y="2852640"/>
            <a:ext cx="13921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4:03:51Z</dcterms:created>
  <dc:creator>valter ferreira</dc:creator>
  <dc:description/>
  <dc:language>en-US</dc:language>
  <cp:lastModifiedBy>ricardo gomes</cp:lastModifiedBy>
  <dcterms:modified xsi:type="dcterms:W3CDTF">2013-10-07T09:24:51Z</dcterms:modified>
  <cp:revision>99</cp:revision>
  <dc:subject/>
  <dc:title>Diapositivo 1</dc:title>
</cp:coreProperties>
</file>